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8F63B-5E63-46B7-88EA-B55DCD49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07247-B918-49F4-AAE0-CCCA5013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F1140-6CD7-4060-B9D8-36874156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07E77-1E05-4D1C-B342-35467CC0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86A65-9408-4A0C-B373-42FAA6B6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D16C4-8107-4C4E-9AE3-3310686B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1A0C1-B43D-4225-AB8B-2DA9162C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C2490-4DCE-4FE2-ADD7-79005954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FB0F3-864F-4BE0-AC19-7A08E564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DD2C3-04C5-40F3-B345-ECC4714F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FC8F6-6B8A-4732-9680-E0842288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AC6FE-EC87-4109-A639-93F2F008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D642F-F0C1-4920-A76B-92E65B69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2DDE4-E444-4067-804B-346EF4BC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617CD-4E40-4D94-8D84-84837B7C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16D0B-7279-4D3D-8469-39C32739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23037-A9FC-49CE-8D42-A5FCF57B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987A5-CE0C-4A30-81ED-997F5D6D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33E08-7554-43AB-841A-1863DB93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7B8D5-C101-4CD1-8A34-F64A3D1B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85D69-AD55-4BAC-A309-615216CD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3E72E-8813-4FA3-B5A5-50DADDBA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099CD-CA97-4999-A1C4-1BBEA91D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D295A-0C43-4269-8A54-8EF57832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3A73C-1408-47E3-827A-39DFAA27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0B248-CBF4-4212-BC56-015FC6B5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C4FC0-C592-4819-B558-450D99CE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CE9D5-B8E9-4A27-B939-65E6B684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ADF8F-3E0E-40A4-AE00-94F50DB8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F4450-282D-42C7-A493-80DAFEE5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023-276E-4D65-BCC0-38966864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A8E16-1FEB-45BC-9592-18FBAD97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1E5F2-0013-4EE7-8C57-84406AD6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3E41E-1919-4FF4-8D4B-994C8882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317EF-ECE4-4CCC-B3B0-5F87F16C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47156-0056-4D76-B91B-71481541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6E479-341B-426E-A7C1-C2292E2A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59CF2-2F09-4023-B604-EA021E76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E69CF-4DB0-432D-9C00-FB0AEFDB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01923-C685-42F0-9E0F-9957671D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A2F5B-DD72-44D3-B536-FC9FFA3F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352-C26B-4378-8AF1-021B3146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8983C-5BF5-4B60-ABCB-EA9C3693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A2675-8A4D-4D32-B501-18ED02DC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E9A4D-BE0F-40B5-8FCE-2AD40E3B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AB39A-E8D1-4FBB-8979-A5550DD6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E98FD-0DFB-4DFD-ADB0-0790C36A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665-ADBC-4CDA-8EAF-77369608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6C7-4DEF-4BC4-B84B-B9AEC5C1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C17-006A-43BF-A70F-5749BB2B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68C-B7FB-440D-AFD0-4C4A04C5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809-34D3-43E7-99EE-A7BB240F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B4B-97F7-459A-B72D-7767CE29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54A-166C-423F-B1D0-8632F564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6D7-42C2-4110-9B94-FF2390CF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BAE-8569-41AC-8EC0-5878E19D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B71-49CA-4B7D-BA8A-B2333CBB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DB13-E956-457A-B220-61ABD483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A192-D2B0-4641-B865-3548F3BA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2F70-5093-48FB-96D9-D9691324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F4E1-B97C-4145-A2A2-F7FAA530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EE41-D3F7-43EA-AC59-D656210F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866D-7E09-4634-B317-517D59D0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BACB-1737-404F-AD83-BED38E14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A426-D565-4CAA-8567-A6E386AA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F7DB-CC0E-4268-B2EE-048E8C3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4FC3-941B-4A31-89AB-11B68397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C814-C430-45FA-A894-DF120B0A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6E4C-FE07-4EA0-965C-78ACFE98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169E8-C062-4D67-B263-67C6CD62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1E08B-503A-4D72-A05F-D5A6E8FA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2F86-C7F0-49DA-8B9D-60F6C5EA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9396-1ECE-40D7-875F-174A3E72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38B99-AA25-4284-A46B-57D16438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2742-437F-4C70-A04A-7253121A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2550-AF3C-4203-A673-6A7DF5D0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52CCB-BF8C-49F3-B197-63ADA852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7BC2-7C16-4AEA-9BD8-ACCCBF30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26E1F-E563-45F4-B698-36C12501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ACF0-0F5D-4679-88D4-50836E3E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EBE73-C3E6-4FAF-A8E3-C7063EEA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18584-822E-443F-90B2-1783912A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9B41C-C1B4-4076-B4CB-959D5589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39E4A-9FEB-43A0-AB3F-F9704AC8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5409-48BE-41EF-BFDB-109769B4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2B4D5-803C-4DD2-B199-D9427A3F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59C4D-CDDE-4E41-8A34-8253DA0C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526AF-7D16-4AD4-8A6A-0CAE1695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29285-605E-46AB-9566-27D0059F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334DF-D85E-4F3E-88D0-9065A5B6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62361-ECD3-4F97-9557-9F966E56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53E47-CBFB-42DA-B9CD-B6881693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4568D-2250-42B6-B2B6-3524130C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3EF17-7ADD-458F-95F7-791E40A6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AD0EB-1F0C-4CB3-9869-CA3FB9A5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BF3BB-F62C-4FC3-BAFD-4612F385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5C12B-B196-41B6-954F-5AA8230B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F1EC7-44F5-431F-ACB5-F94C73A9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BB5F7-1355-487C-9815-9AF4BADD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E9041-4C49-474E-ACA9-3AA84350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FA9CF-4CCA-4FE9-B9EC-715C1AD7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4AFDB-7831-4437-94E8-3E9A839D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013EB-41F6-4A3B-A0D7-C21280A0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9F6F7-67DD-4FA0-8EFF-D9AA1363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84528-9AE0-4A52-A529-6B8A4793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3A988-3FD0-4035-96B1-16290787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D63E2-86B6-4F9E-978E-83076557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BDD19-1264-4861-8802-F1F01910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907A4-E90B-441F-8F8C-BF75A92B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73C9D-93AA-4DC0-B3BF-743E5B64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6F676-8750-4A54-8A75-E2EB45DF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0D651-26A6-45FA-9C64-89070EFE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5D009-0DCC-478D-8D8E-98CFCEBF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95824-E9C5-47CC-B612-D34058CA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47EB4-BFBE-4EC7-B896-2ED6F65F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8C2D8-F8DE-492B-AC52-744A3471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3C16C-3F25-49D3-81B6-AE46C9D6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D736C-9DE1-4C9D-BB62-8D13BE70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C8810-16D5-4357-8921-E3C96050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F2DB5-84F4-4E40-9A72-4B9F4195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DA0D3-4C05-4A17-A82D-286EB500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05D8D-D6F7-4427-9EF9-1D97A1BB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7A872-7EBB-4790-98BC-8607D6E1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958EF-476E-4105-AF9F-B4D34280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013D3-049B-401E-B41A-3D35B6BB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E0CA5-D807-4A06-AED0-42D11C4C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84565-E999-4574-B0E9-861F4FD1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50357-74F5-4A9C-ABF2-3797C4B7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4C3BA-39CF-44C0-9805-5272EBBC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B30CB-67A8-4460-8638-8927E805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989DB-35A1-40E3-8E63-DE254F4F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E8BE1-5802-400E-86DD-E8643756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8944-DEFB-4296-8984-F855FEA523D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AA4F-275E-457C-89E4-F0733491CF8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FD86-8940-4002-B411-E617AC9D966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C97B-5B5C-4F41-B4C6-487B6609C3B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530F-74E5-40A2-B4C6-492CC8C96B0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0A7D-106D-4E31-9CBE-BDBB765770E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5235-2F21-491A-AF4D-468106622BC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061F-3503-4AC3-9EFB-6FBAF99270E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62C0-B646-43A7-BFBF-9EFEBA755B3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1844-356F-4565-94AB-2ADE20A2053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1254-7A16-44F6-89F5-BB1AA0E46AA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C3E9-7B18-48BD-ACED-69402C09BD5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8618-09B2-4826-9F37-37BB0E8F267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E607-9E44-4A12-A782-0B74A829CC5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9E78-CB9A-4777-A5BA-43976AE5F5D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AE66-7508-44CC-B8A4-DBB58170DC1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DB6E-7390-4C81-93C1-007A533F1FD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C93C-228B-4208-A7F0-787E13C392C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1E04-B371-41FF-9992-D2E661C3857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10C7-4E27-4B67-93EC-D2E91E2B7FE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2918-25C5-46CF-B143-9ED89991A71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6DEA-93F8-4DEA-AD6C-42993C5F2CE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dem.in.gov/airquality/2391.htm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pa.gov/particles/actions.html" TargetMode="External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dem.in.gov/airquality/2392.htm" TargetMode="External"/><Relationship Id="rId2" Type="http://schemas.openxmlformats.org/officeDocument/2006/relationships/hyperlink" Target="mailto:gferris@idem.IN.gov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2"/>
                </a:solidFill>
                <a:latin typeface="Calibri"/>
              </a:rPr>
              <a:t>Indiana Department of Environmental Management</a:t>
            </a: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2013 Fine Particles (PM</a:t>
            </a:r>
            <a:r>
              <a:rPr b="1" lang="en-US" sz="2800" spc="-1" strike="noStrike" baseline="-25000">
                <a:solidFill>
                  <a:srgbClr val="008000"/>
                </a:solidFill>
                <a:latin typeface="Calibri"/>
              </a:rPr>
              <a:t>2.5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Summary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3"/>
          <p:cNvSpPr/>
          <p:nvPr/>
        </p:nvSpPr>
        <p:spPr>
          <a:xfrm>
            <a:off x="380880" y="5711760"/>
            <a:ext cx="56390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Office of Air Quality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(800) 451-602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dem.IN.gov/airquality/2391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65530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F108-D165-442C-98F5-EC462F77C309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ment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2012 Standard (continu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7360" indent="-117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tes are required to meet the standard no later than six years after designations become effective.  States may request a possible extension of up to five additional years to attain the standard, depending on the severity of an area’s fine particles pollution problems and the availability of pollution control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7360" indent="-117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sed on 2013 monitoring data, no monitor in the state’s 2013 annual ambient air P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onitoring network recorded annual arithmetic mean values above the 2012 annual health standar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7360" indent="-117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sed on quality assured 2011 through 2013 monitoring data, the Jeffersonville – Walnut Street fine particles monitor (Clark County) was the only monitor in the state’s 2013 annual ambient air P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onitoring network that recorded a three-year average annual arithmetic mean above the 2012 annual health standar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0A34-7B69-40FD-A4F1-AC932FF5EF37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BA09-19FE-4F4A-BA7C-E9025E67D44F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PM25 Annual Design Values 2011 - 2013 with attain and redes status w valid in title, Standard at 12, PPT format, MCM.png"/>
          <p:cNvPicPr/>
          <p:nvPr/>
        </p:nvPicPr>
        <p:blipFill>
          <a:blip r:embed="rId1"/>
          <a:stretch/>
        </p:blipFill>
        <p:spPr>
          <a:xfrm>
            <a:off x="184320" y="-271440"/>
            <a:ext cx="8807400" cy="71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5737-9A51-4A6C-B691-70C2A86A7385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"/>
          <p:cNvSpPr/>
          <p:nvPr/>
        </p:nvSpPr>
        <p:spPr>
          <a:xfrm>
            <a:off x="6781680" y="1600200"/>
            <a:ext cx="1828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PM25 Daily Design Values, 2011 - 2013 with valid in title, PPT format, MCM.png"/>
          <p:cNvPicPr/>
          <p:nvPr/>
        </p:nvPicPr>
        <p:blipFill>
          <a:blip r:embed="rId1"/>
          <a:stretch/>
        </p:blipFill>
        <p:spPr>
          <a:xfrm>
            <a:off x="125280" y="-298440"/>
            <a:ext cx="89424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3 Monitoring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0948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Placemen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provides guidance on placement of monito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nitors placed based on population density and manufacturing level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Monit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7 annual fine particle monitors in 20 counties across Indian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1* 24-hour fine particle monitors in 20 counties across Indian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Calculating the Design Val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monitor’s design value is calculated at the end of the year, once all of the data ha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en quality assur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nual Design Value: three-year average of the weighted annual mea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concentra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4-Hour Design Value: three-year average of the 9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percentile of 24-hou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centra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Four monitoring sites reflect air quality in a relatively small area, are directly influenced by a specific source, and are intended to be used for attainment status under the 24-hour standard on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A207-1522-422E-82B3-1335394237F8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374F-DBA2-4231-B4AB-B21E18B506FA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PM25 Annual 2013 Monitoring Network, for Gale's Report, PowerPoint Format, MCMupdate.pn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4552-C987-4506-8BBD-B727D335F309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PM25 Daily 2013 Monitoring Network, for Gale's Report, PowerPoint Format, MCM.pn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nitors by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143000" y="1828800"/>
          <a:ext cx="7238880" cy="4206960"/>
        </p:xfrm>
        <a:graphic>
          <a:graphicData uri="http://schemas.openxmlformats.org/drawingml/2006/table">
            <a:tbl>
              <a:tblPr/>
              <a:tblGrid>
                <a:gridCol w="1974960"/>
                <a:gridCol w="5263920"/>
              </a:tblGrid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re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un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ison, Mar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 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aware, Hen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en, Whit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ke, LaPorte, Por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 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khart, St. Jose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ea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k, Floy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3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bois, Green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ncer, Vanderbur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Cent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roe, Tippecanoe, Vi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D614-1EA0-4BDA-A404-2A13B3EF8769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609480" y="6172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533520" y="6477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3 Monitoring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24680" indent="-326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ed on 2013 monitoring data, no monitor in the state’s 2013 annual ambient air P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onitoring network recorded annual arithmetic mean values above the 2012 annual health stand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4680" indent="-326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4680" indent="-326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ed on quality assured 2011 through 2013 monitoring data, the Jeffersonville – Walnut Street fine particles monitor (Clark County) was the only monitor in the state’s 2013 annual ambient air P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onitoring network that recorded a three-year average annual arithmetic mean above the 2012 annual health standar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4680" indent="-326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4680" indent="-326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ed on 2013 monitoring data, no monitor in the state’s 2013 daily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bient air P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onitoring network recorded 24-hour 9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ile values that exceeded the 2006 24-hour health stand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4680" indent="-326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4680" indent="-326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ed on quality assured 2011 through 2013 monitoring data, no monitor i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ate’s 2013 daily ambient air P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onitoring network recorded a three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ar average 9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 value that exceeded the 2006 24-hour healt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4680" indent="-326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0411-6A0D-4E74-A7E3-D0739C36F80C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nual Arithmetic Mean Trends 2004-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8B12-BD9E-4B94-B642-EB76D0B53EC1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4"/>
          <p:cNvSpPr/>
          <p:nvPr/>
        </p:nvSpPr>
        <p:spPr>
          <a:xfrm>
            <a:off x="390240" y="6324480"/>
            <a:ext cx="211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µg/m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 = micrograms per cubic 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Chart 8" descr=""/>
          <p:cNvPicPr/>
          <p:nvPr/>
        </p:nvPicPr>
        <p:blipFill>
          <a:blip r:embed="rId1"/>
          <a:stretch/>
        </p:blipFill>
        <p:spPr>
          <a:xfrm>
            <a:off x="298440" y="1749600"/>
            <a:ext cx="8620200" cy="4425840"/>
          </a:xfrm>
          <a:prstGeom prst="rect">
            <a:avLst/>
          </a:prstGeom>
          <a:ln w="0">
            <a:noFill/>
          </a:ln>
        </p:spPr>
      </p:pic>
      <p:sp>
        <p:nvSpPr>
          <p:cNvPr id="546" name="Straight Connector 12"/>
          <p:cNvSpPr/>
          <p:nvPr/>
        </p:nvSpPr>
        <p:spPr>
          <a:xfrm>
            <a:off x="1143000" y="3124080"/>
            <a:ext cx="678168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18"/>
          <p:cNvSpPr/>
          <p:nvPr/>
        </p:nvSpPr>
        <p:spPr>
          <a:xfrm>
            <a:off x="8077320" y="3809880"/>
            <a:ext cx="685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nual P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esign Value Trends 2004-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AAB7-ED66-4BA2-AB67-652361F764EA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380880" y="6248520"/>
            <a:ext cx="716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Chart excludes monitors with incomplete data and/or less than three full years of monitoring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µg/m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 = micrograms per cubic 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Chart 5" descr=""/>
          <p:cNvPicPr/>
          <p:nvPr/>
        </p:nvPicPr>
        <p:blipFill>
          <a:blip r:embed="rId1"/>
          <a:stretch/>
        </p:blipFill>
        <p:spPr>
          <a:xfrm>
            <a:off x="298440" y="1749600"/>
            <a:ext cx="8620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3 Fine Particles Monito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16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Fine Particles (P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Season Summary Report provides an overview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P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s from 2013, as well as P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rends over the last 10 yea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004 through 2013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16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16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16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ing and reporting of fine particles occurs on a year-round basis as mandated by the United States Environmental Protection Agency (U.S. EP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16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17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were 7 exceedance days in 201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17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were no Air Quality Action Days in 201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888F-C859-4173-BCBA-FB0644187F3C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4-Hour 9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ercentile Trends 2004-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CB48-EF19-4F93-AADE-028227805909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5"/>
          <p:cNvSpPr/>
          <p:nvPr/>
        </p:nvSpPr>
        <p:spPr>
          <a:xfrm>
            <a:off x="380880" y="633420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µg/m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 = micrograms per cubic 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Chart 16" descr=""/>
          <p:cNvPicPr/>
          <p:nvPr/>
        </p:nvPicPr>
        <p:blipFill>
          <a:blip r:embed="rId1"/>
          <a:stretch/>
        </p:blipFill>
        <p:spPr>
          <a:xfrm>
            <a:off x="298440" y="1749600"/>
            <a:ext cx="86202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E4B9-2EE5-487E-97C0-233653BB547F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4-Hour P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esign Value Trends 2004-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4"/>
          <p:cNvSpPr/>
          <p:nvPr/>
        </p:nvSpPr>
        <p:spPr>
          <a:xfrm>
            <a:off x="380880" y="6095880"/>
            <a:ext cx="548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Chart excludes monitors with incomplete data and/or less than three full years of monitoring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µg/m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 = micrograms per cubic 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Chart 5" descr=""/>
          <p:cNvPicPr/>
          <p:nvPr/>
        </p:nvPicPr>
        <p:blipFill>
          <a:blip r:embed="rId1"/>
          <a:stretch/>
        </p:blipFill>
        <p:spPr>
          <a:xfrm>
            <a:off x="298440" y="1749600"/>
            <a:ext cx="8620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itional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8288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dditional information regarding the NAAQS for fine particles, please visit U.S. EPA’s Particulate Matter Regulatory Actions websi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pa.gov/particles/actions.htm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074D-968F-4798-BDC0-90E58CEAE138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0880" y="190512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r more information regarding the particulate matter designation process, or Indiana’s redesignation petition and maintenance plans, visit </a:t>
            </a:r>
            <a:r>
              <a:rPr b="0" lang="en-US" sz="2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dem.IN.gov/airquality/2392.htm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or contact Mr. Gale Ferris of the Office of Air Quality at (800) 451-6027, (317) 234-3653, or </a:t>
            </a:r>
            <a:r>
              <a:rPr b="0" lang="en-US" sz="2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gferris@idem.IN.gov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7C40-55EC-450D-A346-9C53D174F6A1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 of Particulate Ma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9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What is particulate matter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8440" indent="-9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ulate matter is a complex mixture of small particles found in the air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luding dust, dirt, smoke, and liquid droplet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8440" indent="-9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8440" indent="-9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Where does PM come from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8440" indent="-9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urces of PM include all types of combustion activiti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8440" indent="-9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tor vehicles, coal-fired power plants, open burning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8440" indent="-9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rtain industrial proces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8440" indent="-9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8440" indent="-9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Health effects of PM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95560" indent="-295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d respiratory symptom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95560" indent="-295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rritation of the airway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95560" indent="-295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ughing or difficulty breath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95560" indent="-295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creased lung func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95560" indent="-295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ggravated asthm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95560" indent="-295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ment of chronic bronchitis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95560" indent="-295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rregular heartbea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95560" indent="-295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nfatal heart attack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95560" indent="-295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mature death in people with heart or lung disea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8440" indent="-9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8440" indent="-9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92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8AF2-A939-4502-A701-E969D90EB6BF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481C-E606-4712-BB75-836086D814CB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Big Is Particulate Mat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" name="Picture 4" descr="http://www.epa.gov/pm/graphics/pm2_5_graphic_lg.jpg"/>
          <p:cNvPicPr/>
          <p:nvPr/>
        </p:nvPicPr>
        <p:blipFill>
          <a:blip r:embed="rId1"/>
          <a:stretch/>
        </p:blipFill>
        <p:spPr>
          <a:xfrm>
            <a:off x="1523880" y="175248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tional Ambient Air Qualit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ndards (NAAQS) for P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E085-1554-4635-9649-0730210674EC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5"/>
          <p:cNvSpPr/>
          <p:nvPr/>
        </p:nvSpPr>
        <p:spPr>
          <a:xfrm>
            <a:off x="3962520" y="2895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6"/>
          <p:cNvSpPr/>
          <p:nvPr/>
        </p:nvSpPr>
        <p:spPr>
          <a:xfrm>
            <a:off x="533520" y="228600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rimar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y standards, also known as health standards, are limits set to protect public health, including the health of “sensitive” populations such as asthmatics, children, and the elder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econdar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ary standards are set to protect public welfare, including protection against decreased visibility, damage to animals, crops, vegetation, and build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story of the PM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CA0C-E08D-477B-9542-E99EBC729660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04920" y="4114800"/>
          <a:ext cx="8686800" cy="304920"/>
        </p:xfrm>
        <a:graphic>
          <a:graphicData uri="http://schemas.openxmlformats.org/drawingml/2006/table">
            <a:tbl>
              <a:tblPr/>
              <a:tblGrid>
                <a:gridCol w="990360"/>
                <a:gridCol w="609840"/>
                <a:gridCol w="1600200"/>
                <a:gridCol w="838080"/>
                <a:gridCol w="914400"/>
                <a:gridCol w="609480"/>
                <a:gridCol w="1295640"/>
                <a:gridCol w="1828800"/>
              </a:tblGrid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19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99" name="Up Arrow Callout 5"/>
          <p:cNvSpPr/>
          <p:nvPr/>
        </p:nvSpPr>
        <p:spPr>
          <a:xfrm>
            <a:off x="228600" y="4419720"/>
            <a:ext cx="1143000" cy="1981080"/>
          </a:xfrm>
          <a:prstGeom prst="upArrowCallout">
            <a:avLst>
              <a:gd name="adj1" fmla="val 25002"/>
              <a:gd name="adj2" fmla="val 25000"/>
              <a:gd name="adj3" fmla="val 24995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U.S. EPA issued first NAAQS for Total Suspended Particles (TS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6"/>
          <p:cNvSpPr/>
          <p:nvPr/>
        </p:nvSpPr>
        <p:spPr>
          <a:xfrm>
            <a:off x="304920" y="6477120"/>
            <a:ext cx="2133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µg/m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= micrograms per cubic 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own Arrow Callout 7"/>
          <p:cNvSpPr/>
          <p:nvPr/>
        </p:nvSpPr>
        <p:spPr>
          <a:xfrm>
            <a:off x="1066680" y="1600200"/>
            <a:ext cx="1067040" cy="2514600"/>
          </a:xfrm>
          <a:prstGeom prst="downArrowCallout">
            <a:avLst>
              <a:gd name="adj1" fmla="val 25002"/>
              <a:gd name="adj2" fmla="val 25000"/>
              <a:gd name="adj3" fmla="val 24995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U.S. EPA revised the NAAQS and replaced TSP with PM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Up Arrow Callout 8"/>
          <p:cNvSpPr/>
          <p:nvPr/>
        </p:nvSpPr>
        <p:spPr>
          <a:xfrm>
            <a:off x="1676520" y="4419720"/>
            <a:ext cx="1371600" cy="1981080"/>
          </a:xfrm>
          <a:prstGeom prst="upArrowCallout">
            <a:avLst>
              <a:gd name="adj1" fmla="val 25002"/>
              <a:gd name="adj2" fmla="val 25000"/>
              <a:gd name="adj3" fmla="val 24995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.S. EPA revised NAAQS and included PM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nnual 15 µg/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4-hour 65 µg/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own Arrow Callout 9"/>
          <p:cNvSpPr/>
          <p:nvPr/>
        </p:nvSpPr>
        <p:spPr>
          <a:xfrm>
            <a:off x="2286000" y="1600200"/>
            <a:ext cx="1143000" cy="2514600"/>
          </a:xfrm>
          <a:prstGeom prst="downArrowCallout">
            <a:avLst>
              <a:gd name="adj1" fmla="val 25002"/>
              <a:gd name="adj2" fmla="val 25000"/>
              <a:gd name="adj3" fmla="val 25005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dustry and state governments challenged NAAQ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Up Arrow Callout 10"/>
          <p:cNvSpPr/>
          <p:nvPr/>
        </p:nvSpPr>
        <p:spPr>
          <a:xfrm>
            <a:off x="3200400" y="4419720"/>
            <a:ext cx="1447920" cy="1981080"/>
          </a:xfrm>
          <a:prstGeom prst="upArrowCallout">
            <a:avLst>
              <a:gd name="adj1" fmla="val 25002"/>
              <a:gd name="adj2" fmla="val 25000"/>
              <a:gd name="adj3" fmla="val 24995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.S. Supreme Court upheld U.S. EPA‘s authority to enforce Clean Air Act and rules, U.S. EPA not allowed to consider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Down Arrow Callout 11"/>
          <p:cNvSpPr/>
          <p:nvPr/>
        </p:nvSpPr>
        <p:spPr>
          <a:xfrm>
            <a:off x="4191120" y="1600200"/>
            <a:ext cx="1218960" cy="25146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.C. Circuit Court rejected all remaining legal challenges to the 1997 NAAQ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Down Arrow Callout 14"/>
          <p:cNvSpPr/>
          <p:nvPr/>
        </p:nvSpPr>
        <p:spPr>
          <a:xfrm>
            <a:off x="5791320" y="1600200"/>
            <a:ext cx="1447560" cy="25146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.C. Circuit Court remanded the 2006 PM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NAAQS to U.S. EPA for reconsideration, but did not vacate the standar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Down Arrow Callout 15"/>
          <p:cNvSpPr/>
          <p:nvPr/>
        </p:nvSpPr>
        <p:spPr>
          <a:xfrm>
            <a:off x="7315200" y="1600200"/>
            <a:ext cx="1676520" cy="2514600"/>
          </a:xfrm>
          <a:prstGeom prst="down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.S. EPA strengthened the annual primary PM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NAAQS to 12 µg/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nd retained the existing secondary standard at 15 µg/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tained existing 24-hour NAAQS at a level of 35 µg/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Up Arrow Callout 17"/>
          <p:cNvSpPr/>
          <p:nvPr/>
        </p:nvSpPr>
        <p:spPr>
          <a:xfrm>
            <a:off x="4800600" y="4419720"/>
            <a:ext cx="1523880" cy="1981080"/>
          </a:xfrm>
          <a:prstGeom prst="upArrowCallout">
            <a:avLst>
              <a:gd name="adj1" fmla="val 25002"/>
              <a:gd name="adj2" fmla="val 25000"/>
              <a:gd name="adj3" fmla="val 25001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.S. EPA strengthened the 24-hour NAAQS to 35 µg/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and retained the existing annual standard at 15 µg/m</a:t>
            </a:r>
            <a:r>
              <a:rPr b="0" lang="en-US" sz="1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ing the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335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nnual Stand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attain the 2012 annual standard, the three-year average of weighted annual mean P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concentrations from a monitor must not exceed 12 µ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Exceedance versus a Violation of the Stand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exceedan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ccurs when the annual mean is measured above th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ndard.  A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viol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ccurs when the three-year average of the annual mean i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bove the standard. 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A monitor can exceed the standard without being in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viol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24-Hour Stand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attain the 2006 24-hour standard, the three-year average of the 9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percentile of 24-hou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centrations at each monitor must not exceed 35 µ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Exceedance versus a Violation of the Stand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exceedan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ccurs when the 9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percentile is measured above the standard.  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viol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ccurs when the three-year average of the 9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percentile is measure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bove the standard. 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A monitor can exceed the standard without being in viol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E6B2-7B5B-4486-B094-6C6CFD0545BC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4"/>
          <p:cNvSpPr/>
          <p:nvPr/>
        </p:nvSpPr>
        <p:spPr>
          <a:xfrm>
            <a:off x="695160" y="6248520"/>
            <a:ext cx="211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µg/m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= micrograms per cubic 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ment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2006 Daily Stand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attainment designations for the 2006 24-hour standard were effective December 14,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Indiana counties were designated as attaining the standard and remain i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tain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1997 Annual Stand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attainment designations for the 1997 annual standard were effective on April 5, 200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2 full and five partial counties were designated as nonattain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ubois, Vanderburgh and Warrick counties, as well as Montgomery Township in Gibso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unty, Ohio Township in Spencer County, and Washington Township in Pik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unty were redesignated to attainment on October 27, 201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wrenceburg Township in Dearborn County, which is part of the Cincinnati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milton OH-KY-IN Fine Particles Nonattainment Area, was redesignated to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tainment on December 23, 201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ke and Porter counties were redesignated to attainment on February 6, 201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milton, Hendricks, Johnson, Marion, and Morgan counties were redesignated to attainment on  July 11, 201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ark and Floyd counties, as well as Madison Township in Jefferson County are pending redesignation with U.S. EP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areas of the state currently meet the 1997 annual air quality standar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397A-6E0D-4C37-81CE-46207E5E15EB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ment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2012 Stand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 December 14, 2012, U.S. EPA strengthened the annual primary NAAQS to a level of 12 µ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retained the existing secondary annual standard at a level of 15 µ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primary and secondary 24-hour standards at a level of 35 µ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 The standards were finalized by U.S. EPA on January 15, 2013, and became effective on March 18, 201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rea Design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 December 12, 2013, Indiana submitted preliminary recommendations to U.S. EPA concerning air quality designations for the 2012 primary annual P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standard.  Based on quality assured 2010 through 2012 monitoring data, preliminary and projected monitoring data for 2013, and a probability forecast for 2014, Indiana recommended all monitored counties within the state be designated as attainment under the primary annual P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standar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diana requested that U.S. EPA designate all other areas attainment/unclassifiable under the standard.  U.S. EPA is scheduled to designate areas under the primary annual P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standard by December 12, 201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is scheduled to respond to initial state recommendations by August 14, 201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scheduled to make final designations by December 12, 2014; those designations will likely become effective in early 201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te implementation plans due to U.S. EPA three years after designations become effectiv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1376-4D98-4F2A-A1DA-1D94D70F9FBE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15:14:40Z</dcterms:created>
  <dc:creator>cmitchel</dc:creator>
  <dc:description/>
  <dc:language>en-US</dc:language>
  <cp:lastModifiedBy>Mitchell, Catherine</cp:lastModifiedBy>
  <dcterms:modified xsi:type="dcterms:W3CDTF">2021-05-25T18:23:02Z</dcterms:modified>
  <cp:revision>162</cp:revision>
  <dc:subject/>
  <dc:title>Slide 1</dc:title>
</cp:coreProperties>
</file>