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70F-10E3-4BE1-80FB-8A25DDE2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EC5-2B39-4769-846F-6A0DB07F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7860-F486-4CD9-9200-28C6A3242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859-903F-4876-A72F-D980850E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BCE-025E-4139-B096-0BAEE32B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771-7163-4863-8969-A711A44A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BCD-A131-4414-BAC9-E28EF020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508-16D6-4134-AEB3-26C8C746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308-26E6-41B3-8F5A-3109CA71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3E97-24EA-4766-B9A3-2146D8D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6EE-A4AA-42F6-8A8B-6549068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2BB6-16FB-445B-94D5-0050EAE8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9C2-BF52-4E6E-9A2E-136F872A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4994-4FA1-4B88-B7D2-E55F5EB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089-C748-45A9-9373-2662DF9C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779A-DD68-4B00-808F-A1E718A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375C-7C15-4E80-BBB8-D0377E3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BDFB-4905-4754-9750-80E5105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EA2A-8470-4141-AE13-CEB8C7E0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C862-30CE-4545-8AB4-F5299467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CB11-D3D9-4E77-8534-F89106F5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22AF-096B-432F-BB75-0E997A1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A208-B5C7-4070-80A5-01F18D2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6A4E-8BD8-4A5B-B2E8-1369D31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7CC5-F7C2-405C-A6E8-CD5B1EE6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1C4-755B-4B3F-9ACA-01A6AEA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8431-B62A-47FF-A117-227D143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F982-CD31-40E3-B238-69FC31F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E3AD-2B51-4935-B476-8055111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26BC-8A93-47C0-874E-C5FD5C0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D38F-6F29-496A-9B2E-5965DAEB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03D6-655B-46D6-9F3D-69A6E2DD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D535-DF73-497C-90DD-93DE2CF4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B7DC-2C30-4B72-B38F-31A88CEC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191B-4BE4-4F6F-A37F-63596412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010F-EFF0-4DE7-B4F5-F2674C78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44B-9BAA-4AF0-B6CC-5E31AF7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820BD-5FC9-4472-8272-BCFDF21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CBF9-760B-4DB3-986E-89249AB1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6F81-C266-4435-989F-780981DD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B31C-76BC-463B-A444-84C509B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747A-9F0D-41AB-9AF5-7F1BF69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9E11-7F8F-404F-8C1C-535C493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0BF1-C7B8-4663-9F2C-2B03C612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2215-A1E3-48FC-B409-132F2827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B78C-2610-40E3-B184-77D5E031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97E86-8C7A-4E36-9C93-98BB5C39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1FE-132D-4F08-958C-F2F665C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1767-A667-41B9-844F-5D975FCF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A238-9651-47A4-92CA-BB59E736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0F3E-7213-43CB-8363-6E02F8AF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F4CF-27BE-4292-8B17-2A6ACE4F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285D-CC79-4996-BCFE-95BF573E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4D98-38DF-46F3-A3F4-A901D546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7398-356A-4D0C-BCA0-E3312C9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68E0-E21C-4368-9148-5EEFA8C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7794A-6648-439E-BB69-50ED0A6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11BB-75C7-4130-B2A9-4B60D240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1AA-899E-4861-8FF9-EE02902C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1563-33E2-4831-828A-4410B7E3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5800-D566-4DDA-B253-A32BA4D6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9910-596B-47DC-885F-267616B3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AF3B-47FE-4817-82E0-BD571ECA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C279-945E-4062-8279-179CAFC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DE74-DFBC-472A-8C62-146A080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0388-6D98-4713-8366-2F5577A3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2129-5D38-45BA-9758-7AF6C37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5AC9-DFD1-4F5C-9A54-80E41365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C0BD-3199-4F3E-A004-E5E2B0B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9A4-C54B-4777-9F0D-0717E35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A557-9C7E-40D2-BE10-654E956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676CC-6EBB-4BAB-BA20-97691154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760C-F4F6-4082-B363-EACED7DB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2EF9-290A-4CBC-B10C-A1C0DD1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D574-9A49-4E49-9AA0-AD02FCA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2763-E651-41D8-A474-B81B277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3C06-072A-47B8-8834-C8814D54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9346-B988-4285-BB64-F261FD2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2907C-6DAF-4A84-A8B6-ABC0291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624E-ABFA-407D-AFE7-9BCD335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83-0A50-408E-9C2D-BA55DE9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ECAC-768E-46D4-B520-4EC158C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3CCC-06D4-4F4F-BB00-3A435A8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4A86-1AEC-40FB-B73B-4294BB2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38C69-3A78-4057-9022-ACFA7025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3D70-12A6-4638-9CAC-31512FCE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DBC6-A48A-4C55-8378-701F46E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939B-1F11-4E80-978F-05B4C91A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6892-FA79-487E-A1CF-98BA4B5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A8EF-B406-4902-95E0-31F2772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8D3D1-5422-47EA-920A-49DE3358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DA7-E9B3-43D1-ACCE-D649F0C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6BDDE-ACB8-4675-8175-535C7D4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37DB-7124-4712-8C9D-38F514D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B6E4-95C7-453C-97AC-E11AE51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4956C-857E-4C77-8157-679BBF9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5A3F4-E75B-460B-8C00-727F2BE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D73E1-1CF1-49B4-846A-0DE11D7D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27631-1130-4F98-A868-41ABCBFC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FF6D-F922-4D6B-8D82-489A10A67DA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90D2-CE0A-4483-8D48-B6D8DF65EA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FC2-AB57-458D-9BCD-455165CC31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B141-EBAC-4C67-A21F-08F4DDB69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0518-7A18-4916-A138-42D0BB18AF8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7D8-4BEF-407C-9AD5-1B4A39C6F6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EDA-35E7-49C0-B391-54E9FEBF5C7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C4A6-722D-460C-9336-FFC3991F34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8F0-74B3-421E-883C-DCFF1C5B7F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DD99-D136-490F-8736-C9A06BF396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8B46-992E-4BCE-B102-FCFEF299BFF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651-EB6E-41CE-B1B0-BFC118FC5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5B38-27AD-4A6A-8F17-61175B9914E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1923-089C-44A3-B7AA-C8073021CF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9517-8281-4FC6-A803-6EF04E9DB14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A48-DA4C-4E90-948F-996FECE339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m.in.gov/airquality/2391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pa.gov/particles/actions.html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dem.in.gov/airquality/2392.htm" TargetMode="External"/><Relationship Id="rId2" Type="http://schemas.openxmlformats.org/officeDocument/2006/relationships/hyperlink" Target="mailto:SSeals@idem.IN.gov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9320" y="1523880"/>
            <a:ext cx="6476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563868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ffice of Air Qualit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800) 451-6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895480" y="2895480"/>
            <a:ext cx="3409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2012 Fine Particles (P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Calibri"/>
              </a:rPr>
              <a:t>2.5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smogwatchlogo"/>
          <p:cNvPicPr/>
          <p:nvPr/>
        </p:nvPicPr>
        <p:blipFill>
          <a:blip r:embed="rId2"/>
          <a:stretch/>
        </p:blipFill>
        <p:spPr>
          <a:xfrm>
            <a:off x="6172200" y="5334120"/>
            <a:ext cx="2590920" cy="118404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5"/>
          <p:cNvSpPr/>
          <p:nvPr/>
        </p:nvSpPr>
        <p:spPr>
          <a:xfrm>
            <a:off x="6553080" y="64008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97F8-D80D-49D8-908B-E9E09162D97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A5A3-E2BA-4FF3-92BB-643E5E221387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380880" y="1981080"/>
            <a:ext cx="79250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9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12 Standard 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sed on 2012 monitoring data, no monitors recorded annual arithmetic mea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es above the 2012 annual health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sed on 2010 through 2012 monitoring data, 6 monitors in 5 counties had a three-year average annual arithmetic mean above the 2012 annual health standard. Monitors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ry - Madison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ianapolis - East Michigan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ianapolis - West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asper - Post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ffersonville - Walnut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100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nsville - University of Evansvi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E5F-7BDE-4DDD-B17F-FAD6CCCAB76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PM25 Annual Design Values 2010 - 2012 with attain and redes status w valid in title, Standard at 15, PPT format, MCM.png"/>
          <p:cNvPicPr/>
          <p:nvPr/>
        </p:nvPicPr>
        <p:blipFill>
          <a:blip r:embed="rId1"/>
          <a:stretch/>
        </p:blipFill>
        <p:spPr>
          <a:xfrm>
            <a:off x="336600" y="0"/>
            <a:ext cx="84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D88A-72BF-43F0-8E93-8065BE0ADAC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PM25 Annual Design Values 2010 - 2012 with attain and redes status w valid in title, Standard at 12, PPT format, MCM.png"/>
          <p:cNvPicPr/>
          <p:nvPr/>
        </p:nvPicPr>
        <p:blipFill>
          <a:blip r:embed="rId1"/>
          <a:stretch/>
        </p:blipFill>
        <p:spPr>
          <a:xfrm>
            <a:off x="336600" y="0"/>
            <a:ext cx="84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3382-0563-4DE2-9791-3FADA7B28CB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PM25 Daily Design Values, 2010 - 2012 with valid in title, PPT format, MCM.png"/>
          <p:cNvPicPr/>
          <p:nvPr/>
        </p:nvPicPr>
        <p:blipFill>
          <a:blip r:embed="rId1"/>
          <a:stretch/>
        </p:blipFill>
        <p:spPr>
          <a:xfrm>
            <a:off x="336600" y="0"/>
            <a:ext cx="84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2 Monitoring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B012-5099-45B4-A78E-44A0B9DCC1A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33520" y="1981080"/>
            <a:ext cx="83818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EPA provides guidance on placement of mon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on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 annual fine particle monitors across In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* 24-hour fine particle monitors across In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lculating the Moni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data is collected every three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the year, once all of the dat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been quality as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Design Value: three-year average of the weighted annual mea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Design Value: three-year average of the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monitoring sites reflect air quality in a relatively small area, are directly influenced by a specific source, and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ded to be used for attainment status under the 24-hour standard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B77-4B6A-4E38-B03D-A09107A2C3F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PM25 Annual 2012 Monitoring Network, PPT format, MCM.png"/>
          <p:cNvPicPr/>
          <p:nvPr/>
        </p:nvPicPr>
        <p:blipFill>
          <a:blip r:embed="rId1"/>
          <a:stretch/>
        </p:blipFill>
        <p:spPr>
          <a:xfrm>
            <a:off x="336600" y="0"/>
            <a:ext cx="84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3FE-A7A2-4946-B67D-75420157B56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PM25 Daily 2012 Monitoring Network, PPT format, MCM.png"/>
          <p:cNvPicPr/>
          <p:nvPr/>
        </p:nvPicPr>
        <p:blipFill>
          <a:blip r:embed="rId1"/>
          <a:stretch/>
        </p:blipFill>
        <p:spPr>
          <a:xfrm>
            <a:off x="336600" y="0"/>
            <a:ext cx="84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itors b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5B6-6EA9-4371-8BC1-4824A45C2CF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066680" y="1981080"/>
          <a:ext cx="7086600" cy="4206960"/>
        </p:xfrm>
        <a:graphic>
          <a:graphicData uri="http://schemas.openxmlformats.org/drawingml/2006/table">
            <a:tbl>
              <a:tblPr/>
              <a:tblGrid>
                <a:gridCol w="1932120"/>
                <a:gridCol w="515448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r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un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ison, Ma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aware, Hen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n, Whit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e, LaPorte, Por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khart, St. Jose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k, Floy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ois, Green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cer, Vanderbur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Cent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, Tippecanoe, V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1219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2 Monitoring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135-717B-423F-8771-A26A4CA8D23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457200" y="205740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recorded annual arithmetic mean values tha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eded the 1997 annual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had a three-year average annual arithmet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 value that exceeded the 1997 annual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recorded 24-hour 9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centile values tha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eded the 2006 24-hour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had a three-year average 9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centile val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exceeded the 2006 24-hour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nual Arithmetic Mean Trends 2003-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13E-FD15-48AE-B0D7-ACA39946E90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Chart 5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540640" cy="42796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457200" y="632448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Fine Particles (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Season Summary Report provides an overvie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from 2012, as well as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ends over the last 10 yea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3 through 20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ng and reporting of fine particles occurs on a year-round basis as mandated by the United States Environmental Protection Agency (U.S. EP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9 exceedance days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no Air Quality Action Days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D2E-3E77-478C-BBAC-4359E7D46A7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nual P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Design Value Trends 2003-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F1C-6CF5-4BFC-AA46-04E91FE49C5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9"/>
          <p:cNvSpPr/>
          <p:nvPr/>
        </p:nvSpPr>
        <p:spPr>
          <a:xfrm>
            <a:off x="457200" y="6400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457200" y="62485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Chart excludes monitors with incomplete data and/or less than three full years of monitoring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Chart 7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540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4-Hour 98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Percentile Trends 2003-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E4EA-A5A8-44A0-A856-9B1FA229C21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Chart 4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540640" cy="42796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457200" y="63244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4-Hour P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Design Value Trends 2003-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540C-1F5E-49B8-BD53-B2127EE7C57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457200" y="63244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Chart excludes monitors with incomplete data and/or less than three full years of monitoring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Chart 5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540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54100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dditional information regarding the NAAQS for fine particles, please visit U.S. EPA’s Particulate Matter Regulatory Action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pa.gov/particles/action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4173-3555-4E30-9AA3-A22BAFCA1B03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28800" y="1066320"/>
            <a:ext cx="54100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381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regarding the particulate matter designation process, or Indiana’s redesignation petitions and maintenance plan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2.ht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or contact Mr. Gale Ferris of the Office of Air Quality at (800) 451-6027, (317) 234-3653, 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gferris@idem.IN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54BB-27FD-45F1-8A03-2B7967E0018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What is particulate mat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ulate matter is a complex mixture of small particles found in the air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ding dust, dirt, smoke, and liquid drople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Where does PM come fro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urces of PM include all types of combustion activ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tor vehicles, coal-fired power plants, open burning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ain industrial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P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respiratory sympto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rritation of the air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ghing or difficulty brea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creased lung f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ggravated asth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chronic bronchiti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rregular heartbe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fatal heart atta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mature death in people with heart or lung dise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2133720" y="10666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Particulat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DFF-86DA-405D-ADC2-F557A3A8B54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e Particl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F2A-5169-4887-93D1-300973FDAB6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4456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9"/>
          <p:cNvSpPr/>
          <p:nvPr/>
        </p:nvSpPr>
        <p:spPr>
          <a:xfrm>
            <a:off x="304920" y="633420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m = micro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5562720" y="2438280"/>
            <a:ext cx="6094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Calibri"/>
                <a:ea typeface="Arial"/>
              </a:rPr>
              <a:t>PM</a:t>
            </a:r>
            <a:r>
              <a:rPr b="1" lang="en-US" sz="1200" spc="-1" strike="noStrike" baseline="-25000">
                <a:solidFill>
                  <a:srgbClr val="4d4d4d"/>
                </a:solidFill>
                <a:latin typeface="Calibri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7391520" y="2438280"/>
            <a:ext cx="6094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Calibri"/>
              </a:rPr>
              <a:t>PM</a:t>
            </a:r>
            <a:r>
              <a:rPr b="1" lang="en-US" sz="1200" spc="-1" strike="noStrike" baseline="-25000">
                <a:solidFill>
                  <a:srgbClr val="4d4d4d"/>
                </a:solidFill>
                <a:latin typeface="Calibri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s (NAAQS) for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80B-A8DE-4E5B-BFCF-BF2E198A6CF7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685800" y="2209680"/>
            <a:ext cx="81532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standards, also known as health standards, are limits set to protect public health, including the health of “sensitive” populations such as asthmatics, children, and the eld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standards are set to protect public welfare, including protection against decreased visibility, damage to animals, crops, vegetation, and buil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09320" y="10666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tory of the PM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own Arrow Callout 11"/>
          <p:cNvSpPr/>
          <p:nvPr/>
        </p:nvSpPr>
        <p:spPr>
          <a:xfrm>
            <a:off x="1143000" y="1676520"/>
            <a:ext cx="1066680" cy="2514600"/>
          </a:xfrm>
          <a:prstGeom prst="downArrowCallout">
            <a:avLst>
              <a:gd name="adj1" fmla="val 25002"/>
              <a:gd name="adj2" fmla="val 25000"/>
              <a:gd name="adj3" fmla="val 25004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revised the NAAQS and replaced TSP with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Up Arrow Callout 13"/>
          <p:cNvSpPr/>
          <p:nvPr/>
        </p:nvSpPr>
        <p:spPr>
          <a:xfrm>
            <a:off x="228600" y="4495680"/>
            <a:ext cx="990720" cy="1905120"/>
          </a:xfrm>
          <a:prstGeom prst="upArrowCallout">
            <a:avLst>
              <a:gd name="adj1" fmla="val 25002"/>
              <a:gd name="adj2" fmla="val 25000"/>
              <a:gd name="adj3" fmla="val 24998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issued first NAAQS for Total Suspended Particles (TS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own Arrow Callout 14"/>
          <p:cNvSpPr/>
          <p:nvPr/>
        </p:nvSpPr>
        <p:spPr>
          <a:xfrm>
            <a:off x="2286000" y="1676520"/>
            <a:ext cx="1219320" cy="251460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dustry and state governments challenged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own Arrow Callout 15"/>
          <p:cNvSpPr/>
          <p:nvPr/>
        </p:nvSpPr>
        <p:spPr>
          <a:xfrm>
            <a:off x="3581280" y="1676520"/>
            <a:ext cx="1143000" cy="25146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.C. Circuit Court rejected all remaining legal challenges to the 1997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own Arrow Callout 16"/>
          <p:cNvSpPr/>
          <p:nvPr/>
        </p:nvSpPr>
        <p:spPr>
          <a:xfrm>
            <a:off x="4876920" y="1676520"/>
            <a:ext cx="1218960" cy="25146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trengthened the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nual 15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4-hour 35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Up Arrow Callout 17"/>
          <p:cNvSpPr/>
          <p:nvPr/>
        </p:nvSpPr>
        <p:spPr>
          <a:xfrm>
            <a:off x="1295280" y="4495680"/>
            <a:ext cx="1295640" cy="1905120"/>
          </a:xfrm>
          <a:prstGeom prst="upArrowCallout">
            <a:avLst>
              <a:gd name="adj1" fmla="val 25002"/>
              <a:gd name="adj2" fmla="val 25000"/>
              <a:gd name="adj3" fmla="val 24997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ised NAAQS and included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nual 15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4-hour 65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Up Arrow Callout 18"/>
          <p:cNvSpPr/>
          <p:nvPr/>
        </p:nvSpPr>
        <p:spPr>
          <a:xfrm>
            <a:off x="2743200" y="4495680"/>
            <a:ext cx="1447920" cy="1905120"/>
          </a:xfrm>
          <a:prstGeom prst="upArrowCallout">
            <a:avLst>
              <a:gd name="adj1" fmla="val 25002"/>
              <a:gd name="adj2" fmla="val 25000"/>
              <a:gd name="adj3" fmla="val 24999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Supreme Court upheld U.S. EPA‘s authority to enforce Clean Air Act and rules, U.S. EPA not allowed to consider co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Up Arrow Callout 19"/>
          <p:cNvSpPr/>
          <p:nvPr/>
        </p:nvSpPr>
        <p:spPr>
          <a:xfrm>
            <a:off x="4267080" y="4495680"/>
            <a:ext cx="1905120" cy="190512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designated areas under the 1997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2 counties and 5 partial counties in Indiana designated “nonattainment”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own Arrow Callout 22"/>
          <p:cNvSpPr/>
          <p:nvPr/>
        </p:nvSpPr>
        <p:spPr>
          <a:xfrm>
            <a:off x="7467480" y="1676520"/>
            <a:ext cx="1524240" cy="251460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trengthened the annual primary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 to 12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d retained the existing secondary standard at 15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tained existing 24-hour NAAQS at a level of 35 µ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9C4-78A2-49AC-809C-71595BFBCD2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Up Arrow Callout 20"/>
          <p:cNvSpPr/>
          <p:nvPr/>
        </p:nvSpPr>
        <p:spPr>
          <a:xfrm>
            <a:off x="6324480" y="4495680"/>
            <a:ext cx="1752840" cy="1905120"/>
          </a:xfrm>
          <a:prstGeom prst="upArrowCallout">
            <a:avLst>
              <a:gd name="adj1" fmla="val 25002"/>
              <a:gd name="adj2" fmla="val 25000"/>
              <a:gd name="adj3" fmla="val 24998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designated areas under the 24-hour 2006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 (All Indiana counties attained the standar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28600" y="4191120"/>
          <a:ext cx="8686800" cy="30456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914400"/>
                <a:gridCol w="609480"/>
                <a:gridCol w="914400"/>
                <a:gridCol w="533520"/>
                <a:gridCol w="838080"/>
                <a:gridCol w="1371600"/>
                <a:gridCol w="1371600"/>
              </a:tblGrid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61" name="Down Arrow Callout 29"/>
          <p:cNvSpPr/>
          <p:nvPr/>
        </p:nvSpPr>
        <p:spPr>
          <a:xfrm>
            <a:off x="6172200" y="1676520"/>
            <a:ext cx="1219320" cy="251460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.C. Circuit Court remanded the 2006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 to U.S. EPA for reconsideration, but did not vacate the standar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1"/>
          <p:cNvSpPr/>
          <p:nvPr/>
        </p:nvSpPr>
        <p:spPr>
          <a:xfrm>
            <a:off x="228600" y="6477120"/>
            <a:ext cx="25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1" lang="en-US" sz="9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1997 annual standard, the three-year average of weighted annual mean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centrations from a monitor must not exceed 1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average annual mean is measured above 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. A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annual mean i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4-Hou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2006 24-hour standard, the three-year average of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ntrations at each monitor must not exceed 3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is measured above the standard. 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is measur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51EC-8B24-4F4F-B261-8480180A18E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685800" y="62485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06 Daily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2006 24-hour standard were effective December 14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Indiana counties were designated as attaining the standard and remain 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1997 Annual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1997 annual standard were effective on April 5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 full and five partial counties were designated as non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nderburgh and Warrick counties, as well as Montgomery Township in Gibso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, Ohio Township in Spencer County, and Washington Township in Pik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 were redesignated to attainment on October 27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wrenceburg Township in Dearborn County, which is part of the Cincinnati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milton OH-KY-IN Fine Particles Nonattainment Area, was redesignated t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 on December 23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were redesignated to attainment on February 6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rk, Floyd, Hamilton, Hendricks, Johnson, Marion, and Morgan counties, as well as Madison Township in Jefferson County are pending redesignation with U.S. E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areas of the state currently meet the annual air quality standard, but not all area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ve been formally redesign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BFAB-314D-4AAE-A602-5D857990DC3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9DF-73E9-429F-A1A1-D64502DE016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80880" y="1981080"/>
            <a:ext cx="853452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12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December 14, 2012, U.S. EPA strengthened the annual primary NAAQS to a level of 12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retained the existing secondary annual standard at a level of 1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primary and secondary 24-hour standards at a level of 3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The standards were finalized by U.S. EPA on January 15, 2013 and became effective on March 18, 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rea Desig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itial state recommendations on attainment are due to U.S. EPA by December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scheduled to respond to initial state recommendations by August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scheduled to make final designations by December 20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e implementation plans due to U.S. EPA by 20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es are required to meet the standard by 2020.  States may request a possible extension to 2025, depending on the severity of an area’s fine particle pollution problems and the availability of pollution contr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9:09:14Z</dcterms:created>
  <dc:creator>Gale Ferris</dc:creator>
  <dc:description/>
  <dc:language>en-US</dc:language>
  <cp:lastModifiedBy>Mitchell, Catherine</cp:lastModifiedBy>
  <dcterms:modified xsi:type="dcterms:W3CDTF">2021-05-25T18:42:04Z</dcterms:modified>
  <cp:revision>778</cp:revision>
  <dc:subject/>
  <dc:title>Slide 1</dc:title>
</cp:coreProperties>
</file>