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FBC-CCF4-439F-BF67-EACEEFCC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72D7-6B75-4304-AF4B-7F5231F1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899-3892-4D44-B956-F340BBD3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D48-463A-40A8-B62A-4877592A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281-2616-4291-9F81-0E954A19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1AA-9D53-4E5B-AC44-7A451D18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804-EEED-46B8-B4AB-1942AD303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6FBA-8090-4BDF-9789-7E363A6A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1C18-D0F7-43C7-9FF3-1506D819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8F6-E7CB-4D9E-BD47-4EDAFF14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1BF5-D9EB-4F41-BA4D-A143DA6E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DFB7-902C-4F7B-BF78-DB21149C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1A9D-BE97-45D7-9B7E-1E5566C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FF3-7D48-47D0-9ED2-826E4BF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5D20-9911-4424-9551-428DA78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EF12-9FEB-4D87-B660-26A24BFC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9E5C-F617-41B1-B8EE-136E503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75F4-E2CD-477B-88D3-3315A3A3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D648-B82A-408B-BE7D-97878C04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1AF3-1064-48E5-B4E2-91B67881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BB9F-9D9C-4C8E-B078-50AB58F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124A-E3AE-4EB4-8579-5D08A421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91DB-D99B-4F40-AC36-1D07C256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930C-7E81-41EE-B3AE-A833008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B5C-6B57-4CD8-B024-B7D9300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AF76-FCBC-46FA-A03E-EC8A29A2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D328-8033-4B46-A680-1CFDB29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B572-2432-4F4F-A935-44BB344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E554-598E-4014-97D1-B3D10A1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AB6C-B560-42EC-9D7A-33361998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2538-0FB3-49DC-88FC-C5E1A29D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D5B1-A9D4-4C99-BC01-FABFE921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0635-1723-40A2-88B3-EC8CB47C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230F-2516-4EDE-A661-5BD82CB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B5CA-59E6-4B4D-A2D5-97EBC090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C36-7856-4C0E-A432-7F8976C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2B4C-83FE-4E93-853A-84810971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FB18-34EA-46B7-B361-F3C20D77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895C-CF8C-4319-BB4B-E60A85A2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93C0-F6D5-458B-8DEC-92CDABA1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A144-B925-47C3-BBBA-B8AC628D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7E908-8A9E-40C5-91D4-6AC0DFFD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D8A92-817B-4932-976E-D8779107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98A00-646E-41D8-B697-D279E5E3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05C43-DD5E-452C-AB71-C01A54E9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0960-1EBC-45F3-A014-7AC09200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636-8C88-4B51-BE2F-519E9C0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E86DD-DB88-479E-9291-4CE8A64C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09E7C-E6B0-4CEA-8839-3A1DD83E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8CFF-66F5-4CAD-9A25-325E4851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34382-C27C-46DB-B6A3-F6F62157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B12D-BA53-4767-B144-457080AB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25C4-582F-4617-BE60-1056E07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8DED-0AC0-425D-B528-927A500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BCD5-1871-422F-B178-7E552D37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FBBF-0CBE-4D71-84A3-4074C2A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3DDA-E4CB-4294-8F1B-E6DB9151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0AE-D7B5-4285-BD7C-DB1F7E21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F2219-46F1-4296-8A25-EB3D0C25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62AC-0C80-4FFC-B570-014B6738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0AF7-5CAD-4818-87DD-CDCE8DFA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5B1D-69B2-4C8C-BCF7-FA3F0546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FCAE-C874-48E2-B52A-25308D52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27B5-6DD0-4E5F-89D6-6B4AA58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4E77D-2143-4EF1-B1A3-E5E84BA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C0E7D-22B7-44D7-9EA2-C1EF7AE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F7767-7BAB-4780-96E6-0A9E5AD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6BDF8-6F5D-419B-84D5-66FB9A15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AF8-791F-4AEE-98EF-1CEF29BD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F842B-B7EA-4344-8706-6F444158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43E4-3FFF-47C0-A66C-A06353E1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CB35-73C8-4C7A-8D36-5B57CF18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5B0FC-EC6B-43C4-A18F-3B51F83C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85FB-B64C-45F1-9820-F0A1FE54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A7DE-695C-4B2C-94C1-622B4A39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4A051-24E8-401E-BA91-1BE30DC7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01F6-BE19-4B27-A708-B4A19D5C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11D9-5339-4656-8751-6118B56D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DE62-AFEF-4EDC-A75F-EC05642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3BC-CDB1-4AC3-B782-5F494DD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F7B48-9723-4F91-8D28-2A226E8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23C4-B6E3-4757-9A1A-25CCABD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63589-8249-4E59-8DCF-09CD3304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DE9C9-ADD9-4D89-B08A-2CB7A024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A5534-E841-4CFF-8EAF-61DA0435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E288-2868-4BE3-B7E4-BB2DE829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1EA55-973D-4A60-8FA6-0B152B1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38202-AE89-4332-AF78-709F1827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FE653-9C3A-4940-9360-7B9C1C80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AC934-34AA-4AD5-AC25-947C5E77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85C-9D0A-469A-9DC8-40B7E2F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4160F-7D5C-4CA2-88CF-CE32A82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16F7B-E538-43FB-8815-19161B8C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D87A-CE1B-44D9-B255-FC516CC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48DC-C047-4BAE-A69A-01950444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05ED-3AF6-493C-AA0B-AF3FBD9B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479F-CEA9-4586-876F-12225442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E267-525C-406E-8FCA-326A290F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A32-E685-4E3D-8D24-8C7E443F198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DB9C-0C75-4481-AB43-6EAB3D5DC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30AA-B2C9-4D56-BC7B-626EF695262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219-E16F-489E-A678-C7B12B64F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07F7-E236-47F0-9C28-F819767D08B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4DB1-06AD-423B-B5B6-346F2CED3A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FB8-7A75-40F3-91AB-9AB60DD1F45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DFD0-B110-4E22-BA87-3970403F3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3955-2E4F-495E-9029-4B943AE7D5A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AA11-E053-460E-A691-F89BE386BF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C881-C01F-4501-9D5F-9BA3A0CFA11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441F-57E0-438B-90DC-999593A71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0843-8B76-47D2-A8D6-E9DCF404217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9C6-7D95-4531-91DF-389BE8AD38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94E6-AD90-4386-BC6B-00A730BC6B8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C508-3424-4B8E-B450-24428BCF96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pa.gov/particles/actions.html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dem.in.gov/idem/4654.htm" TargetMode="External"/><Relationship Id="rId2" Type="http://schemas.openxmlformats.org/officeDocument/2006/relationships/hyperlink" Target="mailto:SSeals@idem.IN.gov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9320" y="2057400"/>
            <a:ext cx="6476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2"/>
                </a:solidFill>
                <a:latin typeface="Calibri"/>
              </a:rPr>
              <a:t>Indiana Department of Environmental Management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04920" y="563868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ffice of Air Qualit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800) 451-60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ww.idem.IN.gov/6650.htm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895480" y="3429000"/>
            <a:ext cx="3409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2011 Fine Particles (PM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Calibri"/>
              </a:rPr>
              <a:t>2.5</a:t>
            </a: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smogwatchlogo"/>
          <p:cNvPicPr/>
          <p:nvPr/>
        </p:nvPicPr>
        <p:blipFill>
          <a:blip r:embed="rId1"/>
          <a:stretch/>
        </p:blipFill>
        <p:spPr>
          <a:xfrm>
            <a:off x="6172200" y="5334120"/>
            <a:ext cx="2590920" cy="118404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5"/>
          <p:cNvSpPr/>
          <p:nvPr/>
        </p:nvSpPr>
        <p:spPr>
          <a:xfrm>
            <a:off x="6553080" y="64008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4E0E-24C1-459E-BB64-0AA1374ECF0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B7A9-0BB2-4A28-AA72-188939D7FB3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PM25 Annual Design Values 2009 - 2011 and Attainment vs Standard at 14 PowerPoint Format SKR w redes status hash marks.PNG"/>
          <p:cNvPicPr/>
          <p:nvPr/>
        </p:nvPicPr>
        <p:blipFill>
          <a:blip r:embed="rId1"/>
          <a:stretch/>
        </p:blipFill>
        <p:spPr>
          <a:xfrm>
            <a:off x="2193840" y="1006560"/>
            <a:ext cx="4618080" cy="5808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6705720" y="1828800"/>
            <a:ext cx="2438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n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3-Year Average of the Annual Arithmetic Me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sed on 2009-2011 Monitor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 at 14 u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CE62-C0C6-42E7-97DF-5697B76AA1C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PM25 Annual Design Values 2009 - 2011 and Attainment vs Standard at 11 PowerPoint Format SKR w redes status hash marks.PNG"/>
          <p:cNvPicPr/>
          <p:nvPr/>
        </p:nvPicPr>
        <p:blipFill>
          <a:blip r:embed="rId1"/>
          <a:stretch/>
        </p:blipFill>
        <p:spPr>
          <a:xfrm>
            <a:off x="2195640" y="990720"/>
            <a:ext cx="4586040" cy="5810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6705720" y="1828800"/>
            <a:ext cx="243828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n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3-Year Average of the Annual Arithmetic Me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sed on 2009-2011 Monitor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 at 11 u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AD62-9145-499F-BF6D-FBBB2F39BFB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PM25 24-hr Design Values 2009 - 2011 PowerPoint Format SKR.PNG"/>
          <p:cNvPicPr/>
          <p:nvPr/>
        </p:nvPicPr>
        <p:blipFill>
          <a:blip r:embed="rId1"/>
          <a:stretch/>
        </p:blipFill>
        <p:spPr>
          <a:xfrm>
            <a:off x="2209680" y="1006560"/>
            <a:ext cx="4724640" cy="58514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7"/>
          <p:cNvSpPr/>
          <p:nvPr/>
        </p:nvSpPr>
        <p:spPr>
          <a:xfrm>
            <a:off x="6781680" y="1905120"/>
            <a:ext cx="2362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3-Year Average of the 9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Percent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sed on 2009-2011 Monitor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 at 35 u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5515-B954-4357-A3BC-2858BB39C50B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PM25 24-hr Design Values 2009 - 2011 vs Standard at 30 PowerPoint Format SKR.PNG"/>
          <p:cNvPicPr/>
          <p:nvPr/>
        </p:nvPicPr>
        <p:blipFill>
          <a:blip r:embed="rId1"/>
          <a:stretch/>
        </p:blipFill>
        <p:spPr>
          <a:xfrm>
            <a:off x="2209680" y="990720"/>
            <a:ext cx="4724640" cy="58705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6781680" y="1905120"/>
            <a:ext cx="2362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a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3-Year Average of the 9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Percent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sed on 2009-2011 Monitor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 at 30 u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1 Monitoring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D791-5DD2-46D6-8A8E-48A317E3BAF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533520" y="1981080"/>
            <a:ext cx="83818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lac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EPA provides guidance on placement of mon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s placed based on population density and manufacturing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on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annual fine particle monitors across Ind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* 24-hour fine particle monitors across Indi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alculating the Moni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itoring data is collected every three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•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nitor’s design value is calculated at the end of the year, once all of the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been quality ass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Design Value: three-year average of the weighted annu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mean 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Hour Design Value: three-year average of the 9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 of 24-h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monitoring sites reflect air quality in a relatively small area, are directly influenced by a specific source, and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nded to be used for attainment status under the 24-hour standard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itors b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15B2-10CC-4ACC-BCEF-C7A16E1AC36D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371600" y="1905120"/>
          <a:ext cx="6705720" cy="4572000"/>
        </p:xfrm>
        <a:graphic>
          <a:graphicData uri="http://schemas.openxmlformats.org/drawingml/2006/table">
            <a:tbl>
              <a:tblPr/>
              <a:tblGrid>
                <a:gridCol w="1676520"/>
                <a:gridCol w="5029200"/>
              </a:tblGrid>
              <a:tr h="533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re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Coun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aware, Henry, Howard, Madison, Marion, Monr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ke,  LaPorte,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khart, St. Jose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st 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ppecanoe, V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bois, Gibson, Knox, Spencer, Vanderbur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a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k, Floy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1 Monitoring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05CD-E0A0-4D08-96A3-371765B43FE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457200" y="23464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recorded annual arithmetic mean values tha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eded the 2006 annual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had a three-year average annual arithmet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 value that exceeded the 2006 annual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recorded 24-hour 9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centile values tha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eded the 2006 24-hour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monitors in the state had a three-year average 9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centile valu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exceeded the 2006 24-hour health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1325160"/>
            <a:ext cx="9144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Arithmetic Mean Trends 2002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D8E-9E15-473B-80CB-452550F93BD6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Chart 5" descr=""/>
          <p:cNvPicPr/>
          <p:nvPr/>
        </p:nvPicPr>
        <p:blipFill>
          <a:blip r:embed="rId1"/>
          <a:stretch/>
        </p:blipFill>
        <p:spPr>
          <a:xfrm>
            <a:off x="158760" y="2030400"/>
            <a:ext cx="8759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193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Design Value Trends 2002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540D-54B2-4D90-9192-3E7C88278A2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Chart 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686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-Hour 9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ercentile Trends 2002-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579C-F5EC-4547-AB74-63ECA80C9D9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Chart 4" descr=""/>
          <p:cNvPicPr/>
          <p:nvPr/>
        </p:nvPicPr>
        <p:blipFill>
          <a:blip r:embed="rId1"/>
          <a:stretch/>
        </p:blipFill>
        <p:spPr>
          <a:xfrm>
            <a:off x="152280" y="2060640"/>
            <a:ext cx="876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654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554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Fine Particles (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Season Summary Report provides an overvie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s from 2011, as well as P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ends over the last ten yea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2002-201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ing and reporting of fine particles occurs on a year-round basis as mandated by the United States Environmental Protection Agency (U.S. EP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1 exceedance days in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forecasted day (Air Quality Action Day) in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012-1D03-4790-933D-BFDAF32A921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4-Hour P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Design Value Trends 2002-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3B1E-28BF-41B0-B37C-972EAFBEBEF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Chart 4" descr=""/>
          <p:cNvPicPr/>
          <p:nvPr/>
        </p:nvPicPr>
        <p:blipFill>
          <a:blip r:embed="rId1"/>
          <a:stretch/>
        </p:blipFill>
        <p:spPr>
          <a:xfrm>
            <a:off x="122400" y="2048040"/>
            <a:ext cx="875952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5120" y="1477440"/>
            <a:ext cx="54100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ition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560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dditional information regarding the NAAQS for fine particles, please visit U.S. EPA’s Particulate Matter Regulatory Actions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pa.gov/particles/action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80BE-1A3C-40A1-A732-9166F709369D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140184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24080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information regarding the particulate matter designation process, or Indiana’s redesignation petitions and maintenance plan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4654.ht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ntact Mr. Shawn Seals of IDEM’s Office of Air Quality at       (800) 451-6027, (317) 233-0425, o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seals@idem.IN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ABC7-5114-4014-9D20-58A513B94D4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 is particulate mat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te matter is a complex mixture of small particles found in the air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dust, dirt, smoke, and liquid dropl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ere does PM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s of PM include all types of combustion 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tor vehicles, coal-fired power plants, open burn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rtain industrial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alth effects of P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respiratory symptoms, such as irritation of the airways, coughing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difficulty breathing (i.e. decreased lung function, aggravated asthma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development of chronic bronchiti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regular heartb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fatal heart atta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9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mature death in people with heart or lung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52280" y="1218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of Fine Particles (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CCF-7089-4BA4-A865-BD813B6FB80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e Particle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E1C-9115-4D07-B689-431A359A8682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44560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9"/>
          <p:cNvSpPr/>
          <p:nvPr/>
        </p:nvSpPr>
        <p:spPr>
          <a:xfrm>
            <a:off x="533520" y="63244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*µm = mic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7227720" y="2446200"/>
            <a:ext cx="68580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PM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Century Gothic"/>
                <a:ea typeface="Arial"/>
              </a:rPr>
              <a:t>2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"/>
          <p:cNvSpPr/>
          <p:nvPr/>
        </p:nvSpPr>
        <p:spPr>
          <a:xfrm>
            <a:off x="5452920" y="2446200"/>
            <a:ext cx="685800" cy="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PM</a:t>
            </a:r>
            <a:r>
              <a:rPr b="1" lang="en-US" sz="1100" spc="-1" strike="noStrike" baseline="-25000">
                <a:solidFill>
                  <a:srgbClr val="000000"/>
                </a:solidFill>
                <a:latin typeface="Century Gothic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Ambient Air Qualit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andards (NAAQS) for P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094-3A6B-4E6A-96B0-12122D3D560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533520" y="2139840"/>
            <a:ext cx="83055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rimary Standar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ry standards are limits set by the U.S. EPA to protect public health includ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ealth of “sensitive” populations such as asthmatics, children, and the elder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standar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hour standar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condary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ary standards are set by the U.S. EPA to protect public welfare, includ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ction against decreased visibility, damage to animals, crops, vegetation, an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standar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as primary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-hour standard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as primary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consideration of th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.S. EPA is reconsidering the current standards (set in 2006), focusing on a range of 11-1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annual standard and a range of 30-35 µ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3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the 24-hour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762120" y="640080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*ug/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80720" y="1218960"/>
            <a:ext cx="541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tory of the PM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Down Arrow Callout 11"/>
          <p:cNvSpPr/>
          <p:nvPr/>
        </p:nvSpPr>
        <p:spPr>
          <a:xfrm>
            <a:off x="990720" y="2057400"/>
            <a:ext cx="1218960" cy="2133720"/>
          </a:xfrm>
          <a:prstGeom prst="downArrowCallout">
            <a:avLst>
              <a:gd name="adj1" fmla="val 25002"/>
              <a:gd name="adj2" fmla="val 25000"/>
              <a:gd name="adj3" fmla="val 25009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revised the National Ambient Air Quality Standards (NAAQS) and replaced TSP with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Up Arrow Callout 13"/>
          <p:cNvSpPr/>
          <p:nvPr/>
        </p:nvSpPr>
        <p:spPr>
          <a:xfrm>
            <a:off x="152280" y="4495680"/>
            <a:ext cx="990720" cy="1828800"/>
          </a:xfrm>
          <a:prstGeom prst="upArrowCallout">
            <a:avLst>
              <a:gd name="adj1" fmla="val 25002"/>
              <a:gd name="adj2" fmla="val 25000"/>
              <a:gd name="adj3" fmla="val 24997"/>
              <a:gd name="adj4" fmla="val 70041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Down Arrow Callout 14"/>
          <p:cNvSpPr/>
          <p:nvPr/>
        </p:nvSpPr>
        <p:spPr>
          <a:xfrm>
            <a:off x="2286000" y="2057400"/>
            <a:ext cx="1219320" cy="2133720"/>
          </a:xfrm>
          <a:prstGeom prst="down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dustry and state governments challenged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Down Arrow Callout 15"/>
          <p:cNvSpPr/>
          <p:nvPr/>
        </p:nvSpPr>
        <p:spPr>
          <a:xfrm>
            <a:off x="3733920" y="2057400"/>
            <a:ext cx="1447560" cy="2133720"/>
          </a:xfrm>
          <a:prstGeom prst="downArrowCallout">
            <a:avLst>
              <a:gd name="adj1" fmla="val 25002"/>
              <a:gd name="adj2" fmla="val 25000"/>
              <a:gd name="adj3" fmla="val 25004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.C. Circuit Court rejected all remaining legal challenges to the 1997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own Arrow Callout 16"/>
          <p:cNvSpPr/>
          <p:nvPr/>
        </p:nvSpPr>
        <p:spPr>
          <a:xfrm>
            <a:off x="5334120" y="2057400"/>
            <a:ext cx="1295280" cy="2133720"/>
          </a:xfrm>
          <a:prstGeom prst="downArrowCallout">
            <a:avLst>
              <a:gd name="adj1" fmla="val 25002"/>
              <a:gd name="adj2" fmla="val 25000"/>
              <a:gd name="adj3" fmla="val 25007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strengthened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nual 15 u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4-hour 35 u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Up Arrow Callout 17"/>
          <p:cNvSpPr/>
          <p:nvPr/>
        </p:nvSpPr>
        <p:spPr>
          <a:xfrm>
            <a:off x="1219320" y="4495680"/>
            <a:ext cx="1295280" cy="1828800"/>
          </a:xfrm>
          <a:prstGeom prst="upArrowCallout">
            <a:avLst>
              <a:gd name="adj1" fmla="val 25002"/>
              <a:gd name="adj2" fmla="val 25000"/>
              <a:gd name="adj3" fmla="val 25002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vised NAAQS and included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nual 15 u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4-hour 65 ug/m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Up Arrow Callout 18"/>
          <p:cNvSpPr/>
          <p:nvPr/>
        </p:nvSpPr>
        <p:spPr>
          <a:xfrm>
            <a:off x="2819520" y="4495680"/>
            <a:ext cx="1447560" cy="1828800"/>
          </a:xfrm>
          <a:prstGeom prst="upArrowCallout">
            <a:avLst>
              <a:gd name="adj1" fmla="val 25002"/>
              <a:gd name="adj2" fmla="val 25000"/>
              <a:gd name="adj3" fmla="val 25004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Supreme Court upheld U.S. EPA‘s authority to enforce Clean Air Act and rules, U.S. EPA not allowed to consider co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Up Arrow Callout 19"/>
          <p:cNvSpPr/>
          <p:nvPr/>
        </p:nvSpPr>
        <p:spPr>
          <a:xfrm>
            <a:off x="4343400" y="4495680"/>
            <a:ext cx="1905120" cy="1828800"/>
          </a:xfrm>
          <a:prstGeom prst="upArrowCallout">
            <a:avLst>
              <a:gd name="adj1" fmla="val 25004"/>
              <a:gd name="adj2" fmla="val 25001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designated areas under the 1997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2 counties and 5 partial counties in Indiana designated “nonattainment”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wn Arrow Callout 22"/>
          <p:cNvSpPr/>
          <p:nvPr/>
        </p:nvSpPr>
        <p:spPr>
          <a:xfrm>
            <a:off x="8077320" y="2057400"/>
            <a:ext cx="914400" cy="2133720"/>
          </a:xfrm>
          <a:prstGeom prst="down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scheduled to finalize revisions to the 2006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24E9-E76F-4059-AF28-7B60315A604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Up Arrow Callout 20"/>
          <p:cNvSpPr/>
          <p:nvPr/>
        </p:nvSpPr>
        <p:spPr>
          <a:xfrm>
            <a:off x="6324480" y="4495680"/>
            <a:ext cx="1600200" cy="18288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designated areas under the 24-hour 2006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 (All Indiana counties attain the standar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28600" y="4191120"/>
          <a:ext cx="8686800" cy="304560"/>
        </p:xfrm>
        <a:graphic>
          <a:graphicData uri="http://schemas.openxmlformats.org/drawingml/2006/table">
            <a:tbl>
              <a:tblPr/>
              <a:tblGrid>
                <a:gridCol w="914400"/>
                <a:gridCol w="1179360"/>
                <a:gridCol w="954360"/>
                <a:gridCol w="761760"/>
                <a:gridCol w="914400"/>
                <a:gridCol w="838440"/>
                <a:gridCol w="838080"/>
                <a:gridCol w="1328760"/>
                <a:gridCol w="957240"/>
              </a:tblGrid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362" name="Down Arrow Callout 29"/>
          <p:cNvSpPr/>
          <p:nvPr/>
        </p:nvSpPr>
        <p:spPr>
          <a:xfrm>
            <a:off x="6705720" y="2057400"/>
            <a:ext cx="1295280" cy="2133720"/>
          </a:xfrm>
          <a:prstGeom prst="downArrowCallout">
            <a:avLst>
              <a:gd name="adj1" fmla="val 25002"/>
              <a:gd name="adj2" fmla="val 25000"/>
              <a:gd name="adj3" fmla="val 25007"/>
              <a:gd name="adj4" fmla="val 6497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.C. Circuit Court remanded the 2006 PM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NAAQS to U.S. EPA for reconsideration, but did not vacate the standar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1"/>
          <p:cNvSpPr/>
          <p:nvPr/>
        </p:nvSpPr>
        <p:spPr>
          <a:xfrm>
            <a:off x="111240" y="5094360"/>
            <a:ext cx="1066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issued first National Ambient Air Quality Standards (NAAQS) for T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nnual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attain the annual standard, the three-year average of weighted annual mean PM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centrations from a monitor must not exceed 15 µ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average annual mean is measured above 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. A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three-year average of the annual means i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bove the standard.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 monitor can exceed the standard without being i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4-Hou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attain the 24-hour standard, the three-year average of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of 24-hou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centrations at each monitor must not exceed 35 u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9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percentile is measured above the standard. 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ccurs when the three-year average of the 98th percentile is measure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bove the standard.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828440" y="12189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ing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8C80-74E9-4AA7-8EF4-986992A9EB9C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533520" y="61722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*ug/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= micrograms per cubic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aily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ttainment designations for the 2006 24-hour standard were effective December 14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Indiana counties were designated as attaining the standard and remain i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nnual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ttainment designations for the 1997 annual standard were effective April 5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 full and five partial counties were designated as nonattai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areas of the state currently meet the annual air quality standard, but not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areas have been formally redesign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nderburgh and Warrick counties, as well as Montgomery Township in Gibso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ty, Ohio Township in Spencer County, and Washington Township in Pik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ty were redesignated to attainment on October 27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wrenceburg Township in Dearborn County, which is part of the Cincinnati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milton OH-KY-IN Fine Particles Nonattainment Area was redesignated to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 on December 23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ke and Porter counties were redesignated to attainment on February 6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rk, Floyd, Hamilton, Marion, Hendricks, Morgan, and Johnson counties, a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ll as Madison Township in Jefferson County are pending redesignation with U.S. E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5CB-6DF0-4DF9-A3F4-2BFD7A6245E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B2A9-0DFC-485A-92E3-0DF93BEE5FD9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705720" y="1828800"/>
            <a:ext cx="243828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n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3-Year Average of the Annual Arithmetic Me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ased on 2009-2011 Monitoring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ndard at 15 ug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PM25 Annual Design Values 2009 - 2011 and Attainment vs Standard at 15 PowerPoint Format SKR w redes status hash marks.PNG"/>
          <p:cNvPicPr/>
          <p:nvPr/>
        </p:nvPicPr>
        <p:blipFill>
          <a:blip r:embed="rId1"/>
          <a:stretch/>
        </p:blipFill>
        <p:spPr>
          <a:xfrm>
            <a:off x="2193840" y="1006560"/>
            <a:ext cx="4616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9:09:14Z</dcterms:created>
  <dc:creator>Gale Ferris</dc:creator>
  <dc:description/>
  <dc:language>en-US</dc:language>
  <cp:lastModifiedBy>Mitchell, Catherine</cp:lastModifiedBy>
  <dcterms:modified xsi:type="dcterms:W3CDTF">2021-05-25T19:46:54Z</dcterms:modified>
  <cp:revision>592</cp:revision>
  <dc:subject/>
  <dc:title>Slide 1</dc:title>
</cp:coreProperties>
</file>