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3AEF5-4CF0-494E-9257-781AEA7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9845A-60F9-4054-8CA7-CDF7C512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F7E87-30EA-4203-B3E9-837329B7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8E812-E4DE-4B25-9478-4748BB7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FC40D-C865-4752-B5BC-801132B2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355D1-D0D6-4F62-803B-DACB4CA8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3769-C8C0-476E-A422-40A276C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32C9B-8F1C-476E-9CBB-D4C4598D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57B36-AFDD-45DE-8E11-E9604CDC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3E451-68C4-4D70-9BF7-D4BD87F8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01D8E-903D-4181-891B-0049F810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0772D-107A-4FDB-9117-74CCA9AD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E0997-A99F-4A8F-A9EF-04B54B1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764D8-6494-4CE8-B18C-40A2146C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F4BBC-2D97-4701-8B7C-0C716AEE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08DBE-04DE-44B1-8B99-11F70F5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9E5F-1691-4A66-8BB7-5240A967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536DD-6B7D-4535-B64A-6B10422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1DD26-7E53-4406-AD71-6286E2E9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845BD-AB6C-4374-AF55-210A81B9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210AA-2864-4071-BCDC-D1F225AE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EE06F-B77B-4382-9AAF-9D528C52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2338A-5C85-4E7E-A02D-03BB1884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3A68C-6DBA-426C-A7FB-206E981D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FC20D-F53D-452A-B346-48D8B335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4E38A-32BA-4229-BB97-0D0DA348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C493E-8468-48F5-9AAE-B5FD0F20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4BA21-53FA-4F72-83FA-908D01D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9A09D-205F-4D2F-99A0-83935F4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036CA-FDAA-47A7-8F10-05A63C2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BE1-196D-4F7A-A300-80EB7C67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A9C1E-3001-431E-8F87-19FCEBC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07069-66D6-4CEA-A8D4-B9586E8A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57ABA-E93B-422C-8485-9975E389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65B0C-28D9-4585-ABE6-D3AFB708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C88B2-32E0-4F02-B0D0-6FFA47DF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567C7-F91F-425C-9B7A-06E08F08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182E7-EAC0-4E7A-A323-6DCA1C7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CE2EC-7203-4188-8225-5E2F587E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76294-071C-4342-A42A-A96E7D4F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B9C7C-E402-4C59-8784-03CBDF4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82B-32B4-49EE-988D-EBEDB536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5DCD0-77BB-4AFE-A1FE-D2BBCBD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D2F1E-EF9E-4CD1-8112-FA6536A6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DA957-E01C-4102-B11E-F90093DE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6B35A-852C-4257-A0E0-4DACD469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62484-E6FA-4CD5-8FFA-819C8EFC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CC3-4AB4-46CE-A7B9-292C8E4A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C50-1EBB-4F67-B521-1AE98F9B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074-1BAC-4B0D-B8E4-3C772BE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6E6-8506-4724-B217-D234F72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81C-CF8F-4605-9585-185256C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93E-D042-43F0-8C96-62CDA449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0DC-C575-4AD7-8784-F0BCC8B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D72-A34D-45DF-9CC3-47F6DE9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ED5-D47D-4B9E-8F04-6DBF33AC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581-CE01-4C67-8EB8-0C25A74C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ED29-8D1E-46BC-8E24-81B6E368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05E9-70F8-4D9F-97F4-4554BCF2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4683-0D2E-4A38-879D-C939A758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C54A-D952-4983-97EB-E0CE662E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8740-5A8F-42C1-BC0B-68633060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79C-A688-41DF-934D-F5806E61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4BE-9BDA-4888-B263-8028C93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A27-0423-4077-BA50-110497D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CEE8-5D04-4633-9A24-F65DB7B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33F9-F5E9-4E0F-AD84-5F7748AF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E5CC-2884-4842-A5D6-D9AF7535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8C22-5128-4B1B-916F-10700CD2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2585-14DF-4725-BAE4-1DC5526D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76A6-8A65-4BB2-893F-96E5B9A2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320B-1D9F-4C86-8F42-2F532A2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066E-7E31-49A7-AEFA-A9501FE1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6BB7-04BD-4654-823F-52851243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E1B3-A9F4-4A68-B654-2C31814E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0CE0-1050-4C47-A41A-AE12F63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7DD3-E1A2-4BFA-B459-DDCDBF36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69DD-9E46-4FBD-BCDB-0C53FE4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85C7-ACDD-4F98-B7AE-9418775B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1FDE-6814-443E-B0A1-456964E6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1D3F-F98A-4F89-8C71-3910E0D1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AF508-2FEB-47BE-BC21-6E94F1C4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86E1-1978-4388-948C-10B10B3A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826F-4B2A-4352-B998-46B6A97C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B3C87-4A63-4AA5-88D3-8B22C963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DF36-010C-4285-B030-6925C356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407B-BE25-4239-898A-9588EE59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F5F0-BA89-40FF-8215-8355E5C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3015-35D3-4994-8F2D-3907981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4C77-7A99-403A-A45E-ED68689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466D-06E9-42E9-A3AC-C6483680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2ED3-0737-4E76-85EB-0CDB029D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FDB9-EF20-4647-82AF-F17D1B1A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28AD0-C145-4EBC-BAAA-9A31A37D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57DB-35B2-4B66-8FCA-DA322AB3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E17A-3C3B-4EA5-A163-A0B57D8F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73F0-CA44-42CB-B0FD-46E3AB8C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728EC-4508-400A-AFF1-6B63FA53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830EB-564D-49C4-B47F-1524E90E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AF58-28B2-4867-A915-4E91B19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C43F-FE3D-4698-8FD9-09C0DE0D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12979-5A65-497C-950A-218A08E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F34C6-EEE3-4CD2-918F-AE269E8E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BFBD-2A25-4529-8D26-47FBC0E1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CD7D8-C018-465F-8ABC-9CFA1989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2D40D-946A-4F2C-9CA1-8317A298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232D9-49AB-469D-A75D-12D1408B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1AD51-120F-4452-9ECA-FC92A30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54841-08D8-4E17-BD6F-4877D6BB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691BE-7FF5-4BCA-BA2C-52BA45C4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5DFD-788B-43C7-8B85-FD0A466B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A67D6-C791-4DCE-BC21-137E7D3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AF1B1-3B8E-48EA-979F-2D0F4614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4DF1B-07E3-4324-BC16-7A7794AD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B186-47FB-4C22-99E3-B59E783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9992E-7081-4487-8A57-BA3D544A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16D3-45BC-4459-A353-480CCB80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091FF-EBCE-42D4-AB71-A5789267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E4203-8C6E-4221-846D-D5D429C2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4AF4-204F-40D5-9E72-7AA752AB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37E5-817C-447C-B568-1ED74E1A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6C63E-5DA1-44C7-B7F7-EA4B146B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69CD2-A5A8-487E-8764-B2B00713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DCCA7-D260-4046-A841-815F72B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6F558-F50E-4386-8504-4AD9785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C80F2-61DC-4436-8B3F-07B0B9A7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C2D57-8B11-4477-B843-12F232A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CA21-83FB-402D-87D3-B97345C7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6DD1C-C525-4556-AF84-3A59CC89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92D74-1DE9-465A-9174-2CA69829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C9B19-CFC2-4FD2-B469-1773EA28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49125-9F41-471B-9D66-82FE49F7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ED37-A3AC-40DF-8738-C9A4696A691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4B62-FCD5-43B9-B26A-1ADF7CB5443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6092-462D-4C8F-B4E7-5453B4643B9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C34C-3541-46FD-ACA5-645ED72FF7D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C714-E256-4760-BBE8-92BCC29AD74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28E6-07DE-492F-BFD2-4DFE5C8A865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A68-B449-43E2-8161-AECDAB39FBF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E3BD-112D-401E-8F2E-F5846047F8B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B8F5-4531-4661-B32D-AC25F93886F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2670-821E-47E0-AC09-6DAC0E50698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59BD-36B8-4BA4-9333-3B677C98741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.gov/idem/air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1219320" y="1523880"/>
            <a:ext cx="6476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2"/>
                </a:solidFill>
                <a:latin typeface="Calibri"/>
              </a:rPr>
              <a:t>Indiana Department of Environmental Management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1981080" y="3200400"/>
            <a:ext cx="5029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2009 Fine Particles (PM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.5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Summary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430440" y="56386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Air Q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9 Monitoring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lac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.S. EPA provides guidance on placement of moni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s placed based on population density and manufacturing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oni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annual fine particle monitors across Indi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* 24-hour fine particle monitors across Indi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alculating the Monitoring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data is collected every three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nitor’s design value is calculated at the end of the year, once all of the data has been quality assu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nual Design Value: three-year average of the weighted annual mean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nt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-Hour Design Value: three-year average of the 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of 24-hour concent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monitoring sites reflect air quality in a relatively small area, are directly influenced by a specific source, and are intended to be used for attainment status under the 24-hour standard on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1447920" y="1981080"/>
          <a:ext cx="6705360" cy="4572000"/>
        </p:xfrm>
        <a:graphic>
          <a:graphicData uri="http://schemas.openxmlformats.org/drawingml/2006/table">
            <a:tbl>
              <a:tblPr/>
              <a:tblGrid>
                <a:gridCol w="1676160"/>
                <a:gridCol w="5029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re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un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aware, Henry, Howard, Madison, Marion, Monr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ke,  LaPorte,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khart, St. Jose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ppecanoe, V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bois, Gibson, Knox, Spencer, Vanderbur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a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k, Floy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943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nitors by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346640" cy="571500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>
            <a:off x="6629400" y="99072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6781680" y="1600200"/>
            <a:ext cx="221004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ana P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07-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ily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ndard: 35 µg/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365720" cy="5715000"/>
          </a:xfrm>
          <a:prstGeom prst="rect">
            <a:avLst/>
          </a:prstGeom>
          <a:ln w="0">
            <a:noFill/>
          </a:ln>
        </p:spPr>
      </p:pic>
      <p:sp>
        <p:nvSpPr>
          <p:cNvPr id="513" name="Line 5"/>
          <p:cNvSpPr/>
          <p:nvPr/>
        </p:nvSpPr>
        <p:spPr>
          <a:xfrm>
            <a:off x="6705720" y="99072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629400" y="6705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6553080" y="990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6705720" y="1600200"/>
            <a:ext cx="243828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ana P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07-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nual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ndard: 15 µg/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Object 9"/>
          <p:cNvGraphicFramePr/>
          <p:nvPr/>
        </p:nvGraphicFramePr>
        <p:xfrm>
          <a:off x="380880" y="2209680"/>
          <a:ext cx="838224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838224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Rectangle 7"/>
          <p:cNvSpPr/>
          <p:nvPr/>
        </p:nvSpPr>
        <p:spPr>
          <a:xfrm>
            <a:off x="1981080" y="1066680"/>
            <a:ext cx="571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Calibri"/>
              </a:rPr>
              <a:t>2.5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nual Trends 2000-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8"/>
          <p:cNvSpPr/>
          <p:nvPr/>
        </p:nvSpPr>
        <p:spPr>
          <a:xfrm>
            <a:off x="1219320" y="3962520"/>
            <a:ext cx="73152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12"/>
          <p:cNvGraphicFramePr/>
          <p:nvPr/>
        </p:nvGraphicFramePr>
        <p:xfrm>
          <a:off x="762120" y="1905120"/>
          <a:ext cx="7924680" cy="43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92468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Line 3"/>
          <p:cNvSpPr/>
          <p:nvPr/>
        </p:nvSpPr>
        <p:spPr>
          <a:xfrm>
            <a:off x="1066680" y="64771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520280" y="6297480"/>
            <a:ext cx="186300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720" rIns="3672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tandard 15 µg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1981080" y="1066680"/>
            <a:ext cx="5639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nual Trends 2007-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066680" y="6629400"/>
            <a:ext cx="38124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1523880" y="6477120"/>
            <a:ext cx="49532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Standard Revision, Range of Consideration, 11 – 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600200" y="3276720"/>
            <a:ext cx="6934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Line 8"/>
          <p:cNvSpPr/>
          <p:nvPr/>
        </p:nvSpPr>
        <p:spPr>
          <a:xfrm>
            <a:off x="1600200" y="3581280"/>
            <a:ext cx="693432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1600200" y="4572000"/>
            <a:ext cx="693432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28800" y="1066320"/>
            <a:ext cx="54100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information regarding the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signation process, or Indiana’s redesignation petitions and maintenance plan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n.gov/idem/4654.ht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ntact Sarah Raymond of the Office of Air Quality at (800) 451-6027 or (317) 232-844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Fine Particles (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Summary Report provides an overview of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evels from 2009 as well as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ends over the last ten years (2000-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forecasted days (Air Quality Action Day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exceed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2392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 of Fine Particles (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What is particulate matt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te matter is the term for particles found in the air, including dust, dirt, soot, smoke, and liquid dropl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Where does PM come fro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s of PM include all types of combustion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or vehicles, power plants, wood burning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rtain industrial proces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ealth effects of PM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respiratory symptoms, such as irritation of the airways, coughing, or difficulty breathing (i.e., decreased lung function, aggravated asthma, and development of chronic bronchiti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regular heartbe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fatal heart atta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mature death in people with heart or lung dise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e Particle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19160" y="6324480"/>
            <a:ext cx="24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*µm = microgra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33720" y="91440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ional Ambient Air Quality Standards (NAAQS) for 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imary Stand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ary standards are limits set by the U.S. Environmental Protection Agency (U.S. EPA) to protect public health including the health of “sensitive” populations such as asthmatics, children, and the elder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standard: 1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-hour standard: 3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condary Stand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ary standards are set by the U.S. EPA to protect public welfare, including protection against decreased visibility, damage to animals, crops, vegetation, and build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standard: 1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same as primary standar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-hour standard: 3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as primary standar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econsideration of the Stand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.S. EPA is reconsidering the current standards (set in 2006), focusing on a range of 11-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the annual standard and a range of 30-3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the 24-hour stand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346680" y="6583320"/>
            <a:ext cx="32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*ug/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= micrograms per cubic 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6"/>
          <p:cNvSpPr/>
          <p:nvPr/>
        </p:nvSpPr>
        <p:spPr>
          <a:xfrm>
            <a:off x="2514240" y="1066680"/>
            <a:ext cx="453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line of PM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7" descr=""/>
          <p:cNvPicPr/>
          <p:nvPr/>
        </p:nvPicPr>
        <p:blipFill>
          <a:blip r:embed="rId1"/>
          <a:stretch/>
        </p:blipFill>
        <p:spPr>
          <a:xfrm>
            <a:off x="152280" y="2154240"/>
            <a:ext cx="88394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057040" y="990720"/>
            <a:ext cx="53341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ing the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nnual Stand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ttain the annual standard, the three-year average of weighted annual mean 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centrations from a monitor must not exceed 1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ccurs when the 9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 is measured above the standard.  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ccurs when the three-year average of the 98th percentile is measured above the standard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 monitor can exceed the standard without being in viol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24-Hour Stand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ttain the 24-hour standard, the three-year average of the 9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 of 24-hour concentrations at each monitor must not exceed 35 u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ccurs when the average annual mean is measured above the standard.  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ccurs when the three-year average of the annual means is above the standard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 monitor can exceed the standard without being in viol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533520" y="6400800"/>
            <a:ext cx="838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aily Stand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.S. EPA attainment designations for the 2006 24-hour standard were effective December 14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Indiana counties were designated as attaining the standard and remain in attai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nnual Stand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.S. EPA attainment designations for the 1997 annual standard were effective April 5,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full and five partial counties were designated as nonattai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reas of the state currently meet the annual air quality standard, but have not been formally re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W, SW and Central Indiana are pending redesig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 Indiana and Lawrenceburg Township are eligible for redesignation and IDEM is planning to submit redesignation petitions in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6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3809880" cy="5715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4"/>
          <p:cNvSpPr/>
          <p:nvPr/>
        </p:nvSpPr>
        <p:spPr>
          <a:xfrm>
            <a:off x="6477120" y="4648320"/>
            <a:ext cx="228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*NW, SW and Central Indiana are pending redesign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*SE Indiana and Lawrenceburg Township are now eligible for redesign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6095880" y="99072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638496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553080" y="12952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6248520" y="1523880"/>
            <a:ext cx="2743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.S. EPA Designated Nonattainment Areas under the Annual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ndard: 15 µg/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9:09:14Z</dcterms:created>
  <dc:creator>KEVIN BUMP</dc:creator>
  <dc:description/>
  <dc:language>en-US</dc:language>
  <cp:lastModifiedBy>Mitchell, Catherine</cp:lastModifiedBy>
  <dcterms:modified xsi:type="dcterms:W3CDTF">2021-05-26T17:54:36Z</dcterms:modified>
  <cp:revision>65</cp:revision>
  <dc:subject/>
  <dc:title>Slide 1</dc:title>
</cp:coreProperties>
</file>