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D15FA-B079-433B-8BF7-44DEC58F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25BF1-AE2B-4615-B287-8A8FC3B9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6E492-0C24-4F08-BB17-A547E345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34FE2-6279-49A2-96EA-748A0DE6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0DDEB-8B21-45E9-8C4F-FEDE6D56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2CB67-D720-4661-9A67-4C20D47C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852E4-A1F2-43F3-956F-EE0F77BA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CB464-A518-43AC-A7F2-D82FD288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3F76A-ABB3-4130-BB4C-E82FB54B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E8A6B-4E00-4E9D-AE30-775E3B5F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1D2D5-5459-48F8-9D80-C9893C9E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93E5A-668C-4F12-BF5D-A4061861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0AD3C-8441-449E-96C5-CD0199B0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5BBB5-E823-4A33-8E10-0EBF31E5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80016-BB1B-4FD3-9054-2FF185A5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DB7CD-E69A-47EF-9AAD-D69E6FE3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B2A1A-EF9F-43D9-BAE8-A6214C3A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D20A4-5956-4BD7-A9BF-BCAE9974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2B550-AE16-42C3-ACD6-B4BD7E90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8BE48-B54E-4239-A330-3F0B4D77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67A72-3864-4949-B782-3881229A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C1C13-B55D-4023-B063-BF6399FF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25B4B-F58E-4545-85D5-345B659F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C60AE-F211-4E29-B93B-067923DD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8D6CC-334B-4802-93FE-47AF7959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3AB10-939A-434F-AD35-A01BD22D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90A0C-F8E7-4B01-8645-C63C9AB4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720C6-77E7-41B3-8637-410968AF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6CF2B-F250-415D-9C02-86A885EA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A20F7-D369-4FB1-9C8B-4C875B6B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D77-D39E-47C4-84C6-25207A08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F6E93-EFC5-4A8C-88D0-05D746E2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78158-7F89-49EF-A55D-6A38550D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D975D-1CF4-4682-B71F-1129D149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7898F-0C3A-483E-A83D-8BBFCA48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A30B7-CF53-4CB1-B704-776B2102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4B2D5-57AB-4FD2-833D-86C2B1E0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8F63E-BEE8-4833-81C2-7D7053D4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75C30-549B-4841-8EDC-45A9F6D3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38CA2-0834-4F99-B0BB-21E59AE3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55538-2B22-40EB-B866-28EBF7D7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105-F120-4515-9F41-ACB58201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B74BC-7972-4052-B1C4-3F2E58BF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92F06-0B8A-4432-BADE-7539EFFD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119DE-F0AB-4356-B108-08D273A3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7B581-A85D-4338-8058-71A3AF6A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5B4F9-E0D4-4504-B4D4-1D6629DD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82F-6ADC-4686-BAC1-1D0577C3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817-D672-45C4-9D50-217DA312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C75-7C43-4876-8D42-A3FAF1DE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ADD-DA39-42F4-8ECC-9FDA2276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CC7-E5D1-489D-BB8C-EFB9135E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23F-E7DF-497B-8E6D-27370A66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E26-09AD-4BE4-9777-F40F0E49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E7B-689B-4A5C-8A73-184C9BC3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E6E-7D6E-4450-B90E-F54C312C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245-5664-4260-895B-6AD39818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2536-F645-4D28-92B2-CCB5CFDB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D2AB-5E7D-466F-95E0-77AC1FA6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EE66-3975-480D-A1CF-F5A30075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706B-3AA9-461B-BDC5-BDA12654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28A3-FC0F-4A03-A1B3-EB969C64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E3CA-193C-4053-A9B4-A9D93131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EB83-72F0-41BE-82A0-336A766B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F166-7B6D-4AE9-AEE7-6C070286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2EDB-D9E0-4EA4-8C15-5B71533F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360C-1263-4C1F-96D7-8B6E0C60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FA82-530F-4105-BA31-E62E4DCB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055B-DBED-4F13-972C-663ADBF4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1018-3491-4A75-B807-0BCE3D6A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26C6-E63D-4FDE-8E7A-18DF6ACB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A7172-1194-4DFC-83E7-DB601287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D518-9F19-4E3E-A726-09F2486C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52D8-7FEF-442F-89DF-D0A00E46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F2AA-9D00-4860-88A7-B20F695A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9292D-BFB1-4E97-993F-D2B9092B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1D640-3E5C-47D1-92BA-DE7435F7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7B027-BEAE-4DA3-9D98-853C9875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B83CA-C17E-43D2-BDFB-D8AE5E59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8E79-0F98-4034-A318-AA993132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077D2-D86A-40E3-A7C1-DB3AADD4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25CC2-D81F-41D4-919B-0B4C62A6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1005-9A51-4B99-BA00-D09B021C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C4755-CA33-4B7D-A428-52460525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25058-12CA-49F5-A945-55306951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241FD-5B2E-4B26-A25D-FCEAC862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EA73A-AEC9-49DE-B485-1EBE0C61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531E6-A692-4CF1-A737-C03B6B2E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1C58-817D-45F0-AFB5-696F8774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53606-6542-450E-933E-6A566C6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6B4C-5681-4535-AC98-429E5252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A691D-2A21-4BBF-A145-5CF408BB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7D5E3-4C32-4DB0-87D2-B0C9DF74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A6B3D-65CD-4DC4-A12E-5034D8E4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83F7A-884D-426D-B4A2-B45722B4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AE69A-4254-4F04-AF65-DE25D687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DB98D-90A2-496E-BDD1-42E586AF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3417B-CBF1-472F-964C-47453E34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A9306-6313-47C9-9578-5C66EE0C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702EA-54DE-450D-BFA5-3B7D01D0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334F6-8279-4DB9-AFDE-FCE29B3F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A83B1-7247-4637-8F06-C4457FC6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51D90-59B3-4501-9827-D5F0EEDD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B93B-348A-4FCE-9973-6A753369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0F594-FD24-45E4-B030-F04E7940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AAE24-CC80-4CE6-AD27-EAAB4176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A969F-C0DC-49D7-8F0E-D2760491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B76BA-F057-4B3A-A224-DCF49637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158C5-A70A-4E47-95A4-BB44CF76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7E8BD-ACE3-4911-AE96-8445B288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89567-BB27-4AAB-804E-BD9BBB07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0C6DB-0306-40F9-824D-2B121294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25329-956D-48DD-9EDA-87B41F31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89C7E-F639-4EB0-8115-6C4E86AF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6BD22-A8BE-45F2-A7B9-2274C10A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771E3-122D-4D85-977F-CB9C74DF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4603F-484D-409D-A019-058EED72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61C5A-06AE-4B0B-B16F-D9D758D1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383DD-D5A9-4036-AAF9-DC876B9B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A3368-B731-4BFD-AE68-FABA0812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5A89D-2674-4E4D-92C5-B1DD0700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42F7F-2752-4DDF-AEE9-FEE4FCCA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1BB6C-F1AB-4349-95AC-50730334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0B8E5-011A-4C46-8834-0C760D43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636EB-8074-4274-9521-BFB4789C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80607-0EFC-4B73-B2D7-C9CBDF16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F03BC-FE25-418E-AE93-A66EDBEC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3C3B7-CED1-439A-B674-A0D85584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A4C4A-BD26-409F-9956-6CDEFE69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BD5E4-A610-43F7-BA10-75635F9D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62A9F-F35F-4686-9770-B7EE3B02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E3631-E387-4A57-8154-BC2F6927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5F0F-D9FD-4EAA-90F8-7A38FD418E0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28F4-5520-4C49-90D3-C104FCEC672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F3A4-B884-487A-99ED-A8590845B85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46B7-9C7D-4A84-9A42-F531D866405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B1ED-50A9-4DDE-9BE5-B840E4B1DE1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C31D-114A-4C9D-87C5-F47FD6DA267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5EBA-2079-4A55-A27F-F2DCF3983DC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D76A-2A70-496A-B6E1-3AE2CAC8DCE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B9E8-3859-45EF-9B88-3D9A916B180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CAB5-942E-4017-B234-67AD9A8D84A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4FF6-4D66-4C8C-B524-5C828785F26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4521-F6EE-44BA-A70A-CFE25419E55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4CA1-B425-4214-BD24-FA341DE0B97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4414-CB2C-4D4B-84A3-3F01AD3B613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D138-1998-44C4-A623-FFA8DFBB710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18C7-1709-42CB-9B1B-686322E3B36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3C6D-FDFE-4A3B-B42F-2736F3E1BDB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FA62-E4F8-4584-A7A0-ACD77A00AB6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2131-6B27-451B-80C4-8E0CFAD6DB3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9AE7-F4BB-400B-9650-3186AE0C8A8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86800" cy="9302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B5C4-BB56-46AA-912C-1BBF9DD730E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830D-621E-4B59-B45E-807FCDECEBE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.gov/idem/airquality/2391.htm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pa.gov/air/ozonepollution/actions.html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dem.in.gov/airquality/2392.htm" TargetMode="External"/><Relationship Id="rId2" Type="http://schemas.openxmlformats.org/officeDocument/2006/relationships/hyperlink" Target="mailto:SSeals@idem.IN.gov" TargetMode="Externa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2"/>
                </a:solidFill>
                <a:latin typeface="Calibri"/>
              </a:rPr>
              <a:t>Indiana Department of Environmental Management</a:t>
            </a: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2013 Ozone Seas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ummary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3"/>
          <p:cNvSpPr/>
          <p:nvPr/>
        </p:nvSpPr>
        <p:spPr>
          <a:xfrm>
            <a:off x="380880" y="5711760"/>
            <a:ext cx="563904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Office of Air Quality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800) 451-602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dem.IN.gov/airquality/2391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63244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7320-BE14-4C97-82C5-CE17F1C7972F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2"/>
          <p:cNvSpPr/>
          <p:nvPr/>
        </p:nvSpPr>
        <p:spPr>
          <a:xfrm>
            <a:off x="7086600" y="1600200"/>
            <a:ext cx="175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zone (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H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1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7"/>
          <p:cNvSpPr/>
          <p:nvPr/>
        </p:nvSpPr>
        <p:spPr>
          <a:xfrm>
            <a:off x="7086600" y="1600200"/>
            <a:ext cx="17524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zone 8-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3-Year Average 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High Daily Maxim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sed on 2011 through 2013 Monitor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at 0.075 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D3FC-BE86-414D-A9DB-4077833E0149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zone 8-hr Design Values 2011 - 2013 Final Values vs Standard at 075 ppm PowerPoint Format MCM.png"/>
          <p:cNvPicPr/>
          <p:nvPr/>
        </p:nvPicPr>
        <p:blipFill>
          <a:blip r:embed="rId1"/>
          <a:stretch/>
        </p:blipFill>
        <p:spPr>
          <a:xfrm>
            <a:off x="-27000" y="-228600"/>
            <a:ext cx="9171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3 Monitoring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160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lac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160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.S. EPA provides guidance on placement of monito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160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s placed based on population density and manufacturin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160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160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onito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160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1 ozone monitors in 27 counties across Indi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160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160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alculating the Monitor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160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ls are monitored 24 hours per day and rolling 8-hour averag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calculated; highest 8-hour average is reported for the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160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nitor’s design value is calculated at the end of each oz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son; design values are calculated for each monitor in the state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160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value: three-year average of fourth highest daily maximu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160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FE51-7BDE-45D7-8F85-40CA6D209859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3 Monitoring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9852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monitors in the state recorded annual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igh daily maximu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s above the 2008 8-hour health standard, i.e., greater than 0.07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p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9852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9852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harlestown State Park, Michigan City, New Albany, and Plumm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zone monitors had three-year average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igh daily maximum desig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s for the years 2011 through 2013 that exceeded the 2008 8-hou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lth stand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034E-A6EB-4AFA-A15C-663A2D862369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zone Monitors by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6211-7DF3-40CE-B415-58A8B3BCAC79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Content Placeholder 6"/>
          <p:cNvGraphicFramePr/>
          <p:nvPr/>
        </p:nvGraphicFramePr>
        <p:xfrm>
          <a:off x="1863720" y="3459240"/>
          <a:ext cx="541656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3720" y="3459240"/>
                    <a:ext cx="541656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609480" y="1752480"/>
          <a:ext cx="8001000" cy="4429080"/>
        </p:xfrm>
        <a:graphic>
          <a:graphicData uri="http://schemas.openxmlformats.org/drawingml/2006/table">
            <a:tbl>
              <a:tblPr/>
              <a:tblGrid>
                <a:gridCol w="2849760"/>
                <a:gridCol w="515124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w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ke                 LaPorte                Po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khart             St. Jose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en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Hunting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2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one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Joh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aware         Mad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milton          Mar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ncock          Morg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ndricks        Shel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oll              V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5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w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e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Vanderburgh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ry                Warr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rk                Jackson               Floy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High Trends 2004-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72CC-0C00-4AE9-A3B0-CD0F81CA080A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914400" y="60958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 8-Hour Health Stand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533520" y="6248520"/>
            <a:ext cx="304560" cy="0"/>
          </a:xfrm>
          <a:prstGeom prst="line">
            <a:avLst/>
          </a:prstGeom>
          <a:ln w="22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685800" y="6553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2"/>
          <p:cNvSpPr/>
          <p:nvPr/>
        </p:nvSpPr>
        <p:spPr>
          <a:xfrm>
            <a:off x="533520" y="6553080"/>
            <a:ext cx="3045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9"/>
          <p:cNvSpPr/>
          <p:nvPr/>
        </p:nvSpPr>
        <p:spPr>
          <a:xfrm>
            <a:off x="914400" y="6400800"/>
            <a:ext cx="192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8 8-Hour Health Stand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Content Placeholder 11" descr=""/>
          <p:cNvPicPr/>
          <p:nvPr/>
        </p:nvPicPr>
        <p:blipFill>
          <a:blip r:embed="rId1"/>
          <a:stretch/>
        </p:blipFill>
        <p:spPr>
          <a:xfrm>
            <a:off x="457200" y="1749600"/>
            <a:ext cx="822960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 Value Trends 2004-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CF87-F99E-46A0-91BF-08C1004085FE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4"/>
          <p:cNvSpPr/>
          <p:nvPr/>
        </p:nvSpPr>
        <p:spPr>
          <a:xfrm>
            <a:off x="609480" y="6172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"/>
          <p:cNvSpPr/>
          <p:nvPr/>
        </p:nvSpPr>
        <p:spPr>
          <a:xfrm>
            <a:off x="533520" y="6248520"/>
            <a:ext cx="304560" cy="0"/>
          </a:xfrm>
          <a:prstGeom prst="line">
            <a:avLst/>
          </a:prstGeom>
          <a:ln w="22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914400" y="6095880"/>
            <a:ext cx="184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 8-Hour Health Stand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7"/>
          <p:cNvSpPr/>
          <p:nvPr/>
        </p:nvSpPr>
        <p:spPr>
          <a:xfrm>
            <a:off x="533520" y="6477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2"/>
          <p:cNvSpPr/>
          <p:nvPr/>
        </p:nvSpPr>
        <p:spPr>
          <a:xfrm>
            <a:off x="533520" y="6553080"/>
            <a:ext cx="3045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9"/>
          <p:cNvSpPr/>
          <p:nvPr/>
        </p:nvSpPr>
        <p:spPr>
          <a:xfrm>
            <a:off x="914400" y="6400800"/>
            <a:ext cx="184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8 8-Hour Health Stand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Content Placeholder 11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eorologically Adjusted Trend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rder to account for variable meteorology, IDEM conducted 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eorologically adjusted trend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eorological conditions can play an important role in  ozone formation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comparing ozone values under similar meteorological conditions, IDEM ca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e whether trends are a result of changes in ozone precursor emiss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/or changes in meteorolog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sults of this analysis confirm a downward trend in monitored ozo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ues across the state through 2012.  Meteorological data used to conduct th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sis is through the year 2012, as 2013 data is not available until well aft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end of the ozone monitoring seas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ailed information concerning this analysis is included in the appendix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B02B-40B1-479F-BF7C-B20969F0D7DF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itional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dditional information regarding the NAAQS for ground-level ozone, please visit U.S. EPA’s Ground-level Ozone Regulatory Actions website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pa.gov/air/ozonepollution/actions.htm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2F70-F2B6-417C-9B88-A95D1E060D40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information regarding the ozone designation process, or Indiana’s redesignation petitions and maintenance plan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dem.IN.gov/airquality/2392.ht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ontact Mr. Gale Ferris of the Office of Air Quality at (800) 451-6027,      (317) 234-3653, or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gferris@idem.IN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FB9D-ED93-4732-B584-AD6EBAEB58A1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END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0880" y="1904760"/>
            <a:ext cx="830592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eorologically Adjusted Trend Analysis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3 Ozone 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7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</a:rPr>
              <a:t>Purpo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16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Ozone Season Summary Report provides an overview of ozone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16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2013, as well as ozone trends over the last ten years (2004 throug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13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16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16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16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zone season in Indiana lasts from April 1 through September 30. The duration of the ozone season for each state is mandated by the United States Environmental Protection Agency (U.S. EP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167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17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83 total days in Indiana’s 2013 ozone seas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17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 exceedance days in 201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117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 forecasted days (Air Quality Action Days) in 201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16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E48B-17AC-4B56-A8CD-27E47B75A2F9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ysis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9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91120" cy="36576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886200" cy="3657600"/>
          </a:xfrm>
          <a:prstGeom prst="rect">
            <a:avLst/>
          </a:prstGeom>
          <a:ln w="0">
            <a:noFill/>
          </a:ln>
        </p:spPr>
      </p:pic>
      <p:sp>
        <p:nvSpPr>
          <p:cNvPr id="565" name="TextBox 10"/>
          <p:cNvSpPr/>
          <p:nvPr/>
        </p:nvSpPr>
        <p:spPr>
          <a:xfrm>
            <a:off x="457200" y="16002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entral In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1"/>
          <p:cNvSpPr/>
          <p:nvPr/>
        </p:nvSpPr>
        <p:spPr>
          <a:xfrm>
            <a:off x="533520" y="57913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ant nodes are those that contain individual monitoring values over 0.075 ppm: Fort Benjamin Harrison (Nodes 13 &amp; 50) and Bristol (Nodes 12 &amp; 13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2"/>
          <p:cNvSpPr/>
          <p:nvPr/>
        </p:nvSpPr>
        <p:spPr>
          <a:xfrm>
            <a:off x="4800600" y="1600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orth Central In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ysis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91120" cy="3657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886200" cy="3657600"/>
          </a:xfrm>
          <a:prstGeom prst="rect">
            <a:avLst/>
          </a:prstGeom>
          <a:ln w="0">
            <a:noFill/>
          </a:ln>
        </p:spPr>
      </p:pic>
      <p:sp>
        <p:nvSpPr>
          <p:cNvPr id="572" name="TextBox 7"/>
          <p:cNvSpPr/>
          <p:nvPr/>
        </p:nvSpPr>
        <p:spPr>
          <a:xfrm>
            <a:off x="533520" y="57913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ant nodes are those that contain individual monitoring values over 0.075 ppm: Beacon Street (Nodes  9, 13, 25 &amp; 29) and Ogden Dunes (Nodes 13 &amp; 2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8"/>
          <p:cNvSpPr/>
          <p:nvPr/>
        </p:nvSpPr>
        <p:spPr>
          <a:xfrm>
            <a:off x="457200" y="16002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orthe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9"/>
          <p:cNvSpPr/>
          <p:nvPr/>
        </p:nvSpPr>
        <p:spPr>
          <a:xfrm>
            <a:off x="4724280" y="1600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orthw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ysis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91120" cy="3505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886200" cy="3505320"/>
          </a:xfrm>
          <a:prstGeom prst="rect">
            <a:avLst/>
          </a:prstGeom>
          <a:ln w="0">
            <a:noFill/>
          </a:ln>
        </p:spPr>
      </p:pic>
      <p:sp>
        <p:nvSpPr>
          <p:cNvPr id="579" name="TextBox 7"/>
          <p:cNvSpPr/>
          <p:nvPr/>
        </p:nvSpPr>
        <p:spPr>
          <a:xfrm>
            <a:off x="457200" y="16002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the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8"/>
          <p:cNvSpPr/>
          <p:nvPr/>
        </p:nvSpPr>
        <p:spPr>
          <a:xfrm>
            <a:off x="4800600" y="1600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thw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533520" y="5562720"/>
            <a:ext cx="7772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ortant nodes are those that contain individual monitoring values over 0.075 ppm: Charlestown (Nodes 10, 11 &amp; 18) and Evansville (Nodes 20 &amp; 42).  Node 20 at the Evansville monitor contains values for 2010 and 2011 only, which meet conditions of that node; the dataset for Node 20 contains one value over the standard in June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ysis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Content Placeholder 5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779800" cy="3581280"/>
          </a:xfrm>
          <a:prstGeom prst="rect">
            <a:avLst/>
          </a:prstGeom>
          <a:ln w="0">
            <a:noFill/>
          </a:ln>
        </p:spPr>
      </p:pic>
      <p:sp>
        <p:nvSpPr>
          <p:cNvPr id="585" name="TextBox 7"/>
          <p:cNvSpPr/>
          <p:nvPr/>
        </p:nvSpPr>
        <p:spPr>
          <a:xfrm>
            <a:off x="1676520" y="1676520"/>
            <a:ext cx="57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ral 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8"/>
          <p:cNvSpPr/>
          <p:nvPr/>
        </p:nvSpPr>
        <p:spPr>
          <a:xfrm>
            <a:off x="914400" y="586728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ant nodes are those that contain individual monitoring values over 0.075 ppm: Plummer (Nodes 4, 13, 25, 29, 42 &amp; 5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 of Ground-level O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102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 is ground-level ozo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102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nd-level ozone is a gas composed of three oxygen atoms.  The chemic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ure of ozone is the same whether at ground level or above the earth, but i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unhealthy to breathe at ground leve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102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102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ere does ground-level ozone come fro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102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nd-level ozone is not emitted directly into the air, but is created by 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ical reaction between nitrogen oxides 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and volatile organic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unds (VOCs) in the presence of sunlight.  Emissions from industri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ies and electric utilities, motor vehicle exhaust, gasoline vapors, an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ical solvents are some of the major sources of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VOC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102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102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ealth effects of ground-level ozon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1160" indent="-213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st pain, coughing, throat irritation, conges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1160" indent="-213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worsen bronchitis, emphysema, asthm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1160" indent="-213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s lung function and inflames the linings of the lung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1160" indent="-213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ars lung tissu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102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9C68-E323-4358-9BE2-E034CFAECE3A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tional Ambient Air Quality Standards (NAAQS) for O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rimary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y standards, also known as health standards, are limits set to protect public health, including the health of “sensitive” populations such as asthmatics, children, and the elder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econdary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ary standards are set to protect public welfare, including protection against decreased visibility, damage to animals, crops, vegetation, and build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DEAD-70D9-4E39-87FD-ECEF4562A51C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story of the Ozone 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6A2E-5A2B-4C79-A3F6-B8165B76FA93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380880" y="4114800"/>
          <a:ext cx="8153640" cy="284040"/>
        </p:xfrm>
        <a:graphic>
          <a:graphicData uri="http://schemas.openxmlformats.org/drawingml/2006/table">
            <a:tbl>
              <a:tblPr/>
              <a:tblGrid>
                <a:gridCol w="939960"/>
                <a:gridCol w="736560"/>
                <a:gridCol w="987480"/>
                <a:gridCol w="917640"/>
                <a:gridCol w="757080"/>
                <a:gridCol w="747720"/>
                <a:gridCol w="628560"/>
                <a:gridCol w="990720"/>
                <a:gridCol w="14479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95" name="Down Arrow Callout 8"/>
          <p:cNvSpPr/>
          <p:nvPr/>
        </p:nvSpPr>
        <p:spPr>
          <a:xfrm>
            <a:off x="457200" y="1828800"/>
            <a:ext cx="121932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U.S. EPA first established a      1-hour standard of 0.08 parts per million (ppm) for ground-level oz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Up Arrow Callout 7"/>
          <p:cNvSpPr/>
          <p:nvPr/>
        </p:nvSpPr>
        <p:spPr>
          <a:xfrm>
            <a:off x="990720" y="4419720"/>
            <a:ext cx="1447560" cy="1752480"/>
          </a:xfrm>
          <a:prstGeom prst="upArrowCallout">
            <a:avLst>
              <a:gd name="adj1" fmla="val 25002"/>
              <a:gd name="adj2" fmla="val 25000"/>
              <a:gd name="adj3" fmla="val 25003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revised the      1-hour ozone standard to a level of 0.12 p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Down Arrow Callout 9"/>
          <p:cNvSpPr/>
          <p:nvPr/>
        </p:nvSpPr>
        <p:spPr>
          <a:xfrm>
            <a:off x="1828800" y="1828800"/>
            <a:ext cx="1523880" cy="2286000"/>
          </a:xfrm>
          <a:prstGeom prst="downArrowCallout">
            <a:avLst>
              <a:gd name="adj1" fmla="val 25002"/>
              <a:gd name="adj2" fmla="val 25000"/>
              <a:gd name="adj3" fmla="val 25002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replaced the        1-hour standard with an 8-hour health standard of 0.08 p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ree states and industry challenged the new stand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Up Arrow Callout 10"/>
          <p:cNvSpPr/>
          <p:nvPr/>
        </p:nvSpPr>
        <p:spPr>
          <a:xfrm>
            <a:off x="2743200" y="4419720"/>
            <a:ext cx="1447920" cy="1752480"/>
          </a:xfrm>
          <a:prstGeom prst="upArrowCallout">
            <a:avLst>
              <a:gd name="adj1" fmla="val 25002"/>
              <a:gd name="adj2" fmla="val 25000"/>
              <a:gd name="adj3" fmla="val 24997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Supreme Court upheld the 199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-hour health standard for oz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Down Arrow Callout 11"/>
          <p:cNvSpPr/>
          <p:nvPr/>
        </p:nvSpPr>
        <p:spPr>
          <a:xfrm>
            <a:off x="3733920" y="1828800"/>
            <a:ext cx="1295280" cy="2286000"/>
          </a:xfrm>
          <a:prstGeom prst="downArrowCallout">
            <a:avLst>
              <a:gd name="adj1" fmla="val 25002"/>
              <a:gd name="adj2" fmla="val 25000"/>
              <a:gd name="adj3" fmla="val 25002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997 8-hour health standard for ozone became effec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Up Arrow Callout 12"/>
          <p:cNvSpPr/>
          <p:nvPr/>
        </p:nvSpPr>
        <p:spPr>
          <a:xfrm>
            <a:off x="4419720" y="4419720"/>
            <a:ext cx="1295280" cy="1752480"/>
          </a:xfrm>
          <a:prstGeom prst="upArrowCallout">
            <a:avLst>
              <a:gd name="adj1" fmla="val 25002"/>
              <a:gd name="adj2" fmla="val 25000"/>
              <a:gd name="adj3" fmla="val 24999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revoked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-hour ozone stand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own Arrow Callout 13"/>
          <p:cNvSpPr/>
          <p:nvPr/>
        </p:nvSpPr>
        <p:spPr>
          <a:xfrm>
            <a:off x="5181480" y="1828800"/>
            <a:ext cx="1371600" cy="22860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strengthened the 8-hour health standard for ozone to a level of 0.075 p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Up Arrow Callout 14"/>
          <p:cNvSpPr/>
          <p:nvPr/>
        </p:nvSpPr>
        <p:spPr>
          <a:xfrm>
            <a:off x="5867280" y="4419720"/>
            <a:ext cx="1143000" cy="1752480"/>
          </a:xfrm>
          <a:prstGeom prst="upArrowCallout">
            <a:avLst>
              <a:gd name="adj1" fmla="val 25002"/>
              <a:gd name="adj2" fmla="val 25000"/>
              <a:gd name="adj3" fmla="val 25000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announced it would reconsider the 2008 8-hour health stand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Up Arrow Callout 15"/>
          <p:cNvSpPr/>
          <p:nvPr/>
        </p:nvSpPr>
        <p:spPr>
          <a:xfrm>
            <a:off x="7162920" y="4419720"/>
            <a:ext cx="1447560" cy="1752480"/>
          </a:xfrm>
          <a:prstGeom prst="upArrowCallout">
            <a:avLst>
              <a:gd name="adj1" fmla="val 25002"/>
              <a:gd name="adj2" fmla="val 25000"/>
              <a:gd name="adj3" fmla="val 25003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announced it would move forward with implementation of the 2008 8-hour health standard set at a level of 0.075 p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own Arrow Callout 16"/>
          <p:cNvSpPr/>
          <p:nvPr/>
        </p:nvSpPr>
        <p:spPr>
          <a:xfrm>
            <a:off x="6781680" y="1828800"/>
            <a:ext cx="1905120" cy="2286000"/>
          </a:xfrm>
          <a:prstGeom prst="down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announced it would withdraw its reconsideration of the 2008 8-hour health standard and revisit the standard during the next statutorily required NAAQS review cycle slated f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ing the 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5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8-Hour Stand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5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ttain the 8-hour standard, the three-year average of the fourth (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highest daily maximum value for the ozone season must be at or below the standard of 0.075 pp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5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5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Exceedance versus a Violation of the Stand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4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xceed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ccurs when an 8-hour average value is measured above the stand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4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viol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ccurs when the three-year average of the 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ighest daily maximum value for the ozone season exceeds the stand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34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 monitor can exceed the standard without being in viol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5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6F03-B8E6-49C8-9142-32C6A8503D4E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ment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Calibri"/>
              </a:rPr>
              <a:t>1997 8-Hour Ozone Health Standar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.S. EPA revised the former health standard in 1997 to 0.08 ppm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3000" indent="-33624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tainment designations became effective in 2004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3000" indent="-33624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itially, 23 counties and one township in Indiana were classified as being in violation of the standar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3000" indent="-33624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the close of the 2008 ozone season, all Indiana counties met the standar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3000" indent="-33624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y May 2010, all areas were officially designated attainment under the standar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3000" indent="-33624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Calibri"/>
              </a:rPr>
              <a:t>2008 8-Hour Ozone Health Standar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165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.S. EPA revised the 1997 health standard in 2008 to 0.075 ppm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3000" indent="-33624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 March 2009, the Indiana Department of Environmental Management (IDEM) submitted state recommendations to U.S. EPA for attainment status for the 2008 standar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63000" indent="-33624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ased on monitoring data from 2006 through 2008, IDEM recommended 12 counties be designated as nonattainmen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3000" indent="-336240"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 September 2009, U.S. EPA announced it would reconsider the standar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1652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9AD2-5B6A-4FB8-92EA-15C4DDE4D9B4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ment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76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2008 8-Hour Ozone Health Standard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September 2011, U.S. EPA announced it would withdraw its reconsideration of th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8 standard and revisit the standard during the next statutorily required NAAQ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ew cycle slated for 2013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 September 22, 2011, U.S. EPA announced its intention to fast-track initial are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ignations and classification ru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itial area designations were based on 2008 through 2010 air quality monitoring dat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d 2009 state recommenda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also announced it would consider 2011 data if certified early (i.e., by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bruary 15, 2012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completed designations for the Chicago-Naperville, IL-IN-WI area on May 31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12, (2008 through 2010 monitoring data for Indiana and Wisconsin and 2009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rough 2011 monitoring data for Illinoi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other area designations were completed on April 30, 201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ke and Porter counties and Dearborn County (Lawrenceburg Township) wer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ignated nonattainment effective July 20, 201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other areas of the state were classified as unclassifiable/attain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ke and Porter counties are pending redesignation with U.S. EP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176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7086600" y="6356520"/>
            <a:ext cx="160020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4D59-F7F1-438B-8B5A-87237A4D87A3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3 Indiana Ozone Nonattainment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94DB-6323-4125-A330-8332A84F62AF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Ozone Nonattainment Areas and Areas Pending Redesignation PowerPoint Format BEC(2).PNG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5:14:40Z</dcterms:created>
  <dc:creator>cmitchel</dc:creator>
  <dc:description/>
  <dc:language>en-US</dc:language>
  <cp:lastModifiedBy>Mitchell, Catherine</cp:lastModifiedBy>
  <dcterms:modified xsi:type="dcterms:W3CDTF">2021-05-26T18:14:02Z</dcterms:modified>
  <cp:revision>61</cp:revision>
  <dc:subject/>
  <dc:title>Slide 1</dc:title>
</cp:coreProperties>
</file>