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dt" idx="25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ftr" idx="26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 type="sldNum" idx="27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0A826-A2F5-4A70-9138-9771D6809C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3A06A-B004-4153-BE61-A3B721591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F7E3A-0A16-4AD7-9A7C-D33B4AA384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7AB0-CCC9-46CF-889F-1A3D06E38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B0E0-3FDD-4FF5-9C44-9B4EBF449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2F21-343C-4E1D-8773-897981C16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CE06-6296-4BF9-9E43-3ED967420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B345D-5974-42C6-B96E-63821115B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911A8-291A-4A54-BA05-32F45FEB9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8FEE9-09CE-459E-BA2D-8104EB163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BC3ED-45D1-4BE3-ADD6-963215E79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BDAD1-ABDB-4A15-9383-E9BB6AAC8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86BB8-0100-4F9D-8EE6-9A84ACC1D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214BB-FC00-4AF0-884D-9B20374C3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0F94-CF91-42A1-A4D6-2093C326D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98F10-80D2-49D5-B435-C22E2FB02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7D132-04CA-4D55-B11C-9833FD8A4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A75F2-AC6E-4E50-BFF8-C5F712BC8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FD7D4-3E59-446B-AF54-133279D98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3A9CC-8472-4280-9128-CB1608EC0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1BD95-E744-4CAD-AC1C-67DC5A05E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6252F-46F7-49DF-929C-D775DD956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07DC7-D17B-4A3D-9749-8A4BD793E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9999C-B932-479D-A33E-3F4A73051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7856E-691B-491A-A195-80FD77FA2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B7B3-3DEB-4FF5-96D0-6E5806D91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21560-24EC-49AC-BDAB-1E8B9C173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EB72C-A4D8-4D42-84F9-099B12493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F0DEF-7270-4840-8C6D-00849941B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94D16-915F-4577-95F4-5D7D18480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594EA-83F1-47AF-9A2A-914C33CA4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8D72F-8027-4CE4-B17B-7F3BF4F65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54767-A748-422A-BA35-2819BC0CB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D910BB-4B5D-4609-8B32-9ADD0433F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66955-1B5D-4345-A9AC-6DEA1001F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561A9-03A5-4490-A756-286518DC9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C0FD-5E25-48C9-973F-94E9D1099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FFA658-576C-448F-B848-37803C779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35387-9FD1-4817-AE55-ED75F75E8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6DBF3-D03D-48FD-BF57-6AFDC77B7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781B9-A745-4B12-AC02-D34483D5C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303D9-577B-4AD3-A37B-D3340BAEB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12DBD-912F-46C9-BBFC-57F9E0F37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1536A-15BD-4A74-84D3-F9B4F70F0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1D5D4-38DB-40D3-A4D4-2B459E531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A2C42-FDD2-48F0-BB54-3EE84FA18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C6E279-E67A-410E-8AA2-47BDCB62D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5266-239F-42B1-AD7A-08AF6A547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6925D6-92A1-468A-8C49-E003F15A3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7C5D3D-583A-45CC-88C0-0F517A79B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3960EC-B829-4866-B160-7D25D69D5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E9FBDE-EAFC-4DB3-82E8-01470D67D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BB60D2-3BF5-4B31-9BDF-D449CCEF5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E4D091-03E7-452C-8CCC-2270AAD08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D97298-76B6-4385-99CA-F84FF1C4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0B7795-5CDD-46A7-B60B-DF1F89890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397A48-02AA-4DB6-BC4B-3F572308A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B27C3A-36B1-420F-AD6E-C39538CDD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0A26-8772-41CC-AE2E-8661EB657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EBDA3B-6DBC-49CB-8C16-3C5553A78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9025EF-B024-4EED-8EDC-FE4718689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B9FD48-73AB-4ACE-A192-237011B80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938778-936E-49EE-B544-CBCDC1932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77AFF9-548A-40A2-A2AA-21EFDA8DF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AD2B5C-FABF-47E9-9410-C9782502E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D95D00-2160-4C7D-A400-A1028216B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FB7D95-0B04-4570-9060-0FF19C32F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55AE92-6670-4FDC-8A89-78FD76083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977F24-948A-44C2-B65D-8125D0057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A7BA-17EF-4881-9603-C44B4DBA1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3C1DF8-2EAE-4944-BC21-AB25E59E9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FEA6DD-EB93-4160-BD28-E92C88E4F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34E7FC-1EA2-457F-AD93-C50B52EEA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5B12F0-77AF-42CC-BDAD-6604D714A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2F9DBB-CBEF-4417-A614-C63E4B381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52731C-88D1-490B-9A78-C2CAF00F6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78E984-79D1-4DFB-8CE7-C458AC88C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CB54FE-5334-4E8A-B880-A97FBCBE7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3EB409-7D9D-4F56-8D58-DC35AD901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0E9FDD-2A17-42C5-BD07-20B61009C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94CB-6B21-403D-9B94-C27D8FBC4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E031DC-1FBA-4D13-81EA-4CDE9A52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6F4DB4-4FDE-47A1-8304-8FA59FF5D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349E20-FBBA-4967-A5AB-2C06EEEA4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B275A5-F7DC-4221-9A41-3B4ABE593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70D89F-5D0B-47E6-A133-56E7190F2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1EE4C0-8D9A-4900-A911-ED61F9DCA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456549-3C01-4002-B381-0E072423B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88F9C8-9B78-4A5A-BA70-06A7CCD45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800365-2A70-49D1-8A34-D12E13576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E8067F-2A9C-444C-A3EF-F6AF24927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B04C-AD3B-4436-B473-758C1A253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D89273-7EC5-4325-A149-C0B5975FA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594DED-74CC-443B-BB92-E4D7BC631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E80A71-D700-4255-B0FF-BAC5E397F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E3A93B-6F64-4ECF-A0AB-8B18B9BE7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DA01A0-DE65-47B0-9076-6D95BBC57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546D1F-0FEA-4A42-919A-E01C622E5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9FCE97-F0C7-426F-B07F-00C16A514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75E01-03D7-4A63-B204-FCCE567DC346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18DC2-C57A-4F61-A85E-B30F5B4C186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3" descr="air.jpg"/>
          <p:cNvPicPr/>
          <p:nvPr/>
        </p:nvPicPr>
        <p:blipFill>
          <a:blip r:embed="rId2"/>
          <a:stretch/>
        </p:blipFill>
        <p:spPr>
          <a:xfrm>
            <a:off x="0" y="0"/>
            <a:ext cx="9144000" cy="201132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A0A49-F965-4B75-B9D7-4C94C9891718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525CD-3C5E-43DB-8054-60C770BE6F8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air.jpg"/>
          <p:cNvPicPr/>
          <p:nvPr/>
        </p:nvPicPr>
        <p:blipFill>
          <a:blip r:embed="rId2"/>
          <a:stretch/>
        </p:blipFill>
        <p:spPr>
          <a:xfrm>
            <a:off x="0" y="0"/>
            <a:ext cx="9144000" cy="20113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1FC94-87ED-475E-832A-7434A4F167BF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F86D4-B7E6-44A8-96B0-3850E6F2CE6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3" descr="air.jpg"/>
          <p:cNvPicPr/>
          <p:nvPr/>
        </p:nvPicPr>
        <p:blipFill>
          <a:blip r:embed="rId2"/>
          <a:stretch/>
        </p:blipFill>
        <p:spPr>
          <a:xfrm>
            <a:off x="0" y="0"/>
            <a:ext cx="9144000" cy="20113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0C2A4-3D01-433F-9B77-C0442F3C283A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DAA9D-8402-4EA8-B3FD-A5CA1EB064C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3" descr="air.jpg"/>
          <p:cNvPicPr/>
          <p:nvPr/>
        </p:nvPicPr>
        <p:blipFill>
          <a:blip r:embed="rId2"/>
          <a:stretch/>
        </p:blipFill>
        <p:spPr>
          <a:xfrm>
            <a:off x="0" y="0"/>
            <a:ext cx="9144000" cy="201132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35324-04E2-481F-8E2D-3CF6E4F353AD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7C0BB-6887-4EAA-9CA5-CF0866DEFD2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3" descr="air.jpg"/>
          <p:cNvPicPr/>
          <p:nvPr/>
        </p:nvPicPr>
        <p:blipFill>
          <a:blip r:embed="rId2"/>
          <a:stretch/>
        </p:blipFill>
        <p:spPr>
          <a:xfrm>
            <a:off x="0" y="0"/>
            <a:ext cx="9144000" cy="201132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83AE3-780E-4B3F-A256-3F986D3637F6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ACE88-0D61-40AF-986B-D1FC2341316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6" descr="air.jpg"/>
          <p:cNvPicPr/>
          <p:nvPr/>
        </p:nvPicPr>
        <p:blipFill>
          <a:blip r:embed="rId2"/>
          <a:stretch/>
        </p:blipFill>
        <p:spPr>
          <a:xfrm>
            <a:off x="0" y="0"/>
            <a:ext cx="9144000" cy="201132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4E2A3-531F-4CB5-A02E-EEABF6CC85E3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9A867-F9D0-4420-B94B-B93587BAC32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6" descr="air.jpg"/>
          <p:cNvPicPr/>
          <p:nvPr/>
        </p:nvPicPr>
        <p:blipFill>
          <a:blip r:embed="rId2"/>
          <a:stretch/>
        </p:blipFill>
        <p:spPr>
          <a:xfrm>
            <a:off x="0" y="0"/>
            <a:ext cx="9144000" cy="201132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760B0-F8F0-4734-88BA-08D0FFD602AA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A9794-6669-4444-8493-1F332779D11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pa.gov/air/ozonepollution/actions.html" TargetMode="External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idem.in.gov/4654.htm" TargetMode="External"/><Relationship Id="rId2" Type="http://schemas.openxmlformats.org/officeDocument/2006/relationships/hyperlink" Target="mailto:SSeals@idem.IN.gov" TargetMode="External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2"/>
          <p:cNvSpPr/>
          <p:nvPr/>
        </p:nvSpPr>
        <p:spPr>
          <a:xfrm>
            <a:off x="1219320" y="1523880"/>
            <a:ext cx="64767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2"/>
                </a:solidFill>
                <a:latin typeface="Calibri"/>
              </a:rPr>
              <a:t>Indiana Department of Environmental Management</a:t>
            </a:r>
            <a:r>
              <a:rPr b="0" lang="en-US" sz="3600" spc="-1" strike="noStrike">
                <a:solidFill>
                  <a:srgbClr val="000099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304920" y="5638680"/>
            <a:ext cx="5029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Office of Air Quality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(800) 451-6027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www.idem.IN.gov/6650.htm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4"/>
          <p:cNvSpPr/>
          <p:nvPr/>
        </p:nvSpPr>
        <p:spPr>
          <a:xfrm>
            <a:off x="2895480" y="2895480"/>
            <a:ext cx="34099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alibri"/>
              </a:rPr>
              <a:t>2012 Ozone Seas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alibri"/>
              </a:rPr>
              <a:t>Summary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5" descr="smogwatchlogo"/>
          <p:cNvPicPr/>
          <p:nvPr/>
        </p:nvPicPr>
        <p:blipFill>
          <a:blip r:embed="rId1"/>
          <a:stretch/>
        </p:blipFill>
        <p:spPr>
          <a:xfrm>
            <a:off x="6172200" y="5334120"/>
            <a:ext cx="2590920" cy="1184040"/>
          </a:xfrm>
          <a:prstGeom prst="rect">
            <a:avLst/>
          </a:prstGeom>
          <a:ln w="0">
            <a:noFill/>
          </a:ln>
        </p:spPr>
      </p:pic>
      <p:sp>
        <p:nvSpPr>
          <p:cNvPr id="332" name="Slide Number Placeholder 5"/>
          <p:cNvSpPr/>
          <p:nvPr/>
        </p:nvSpPr>
        <p:spPr>
          <a:xfrm>
            <a:off x="6553080" y="640080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C84B7-778B-4D36-807A-F58AC066C427}" type="slidenum">
              <a:rPr b="0" lang="en-US" sz="1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60691-3953-42F7-9A47-38E52B0ABA82}" type="slidenum">
              <a:rPr b="0" lang="en-US" sz="1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4"/>
          <p:cNvSpPr/>
          <p:nvPr/>
        </p:nvSpPr>
        <p:spPr>
          <a:xfrm>
            <a:off x="7238880" y="1981080"/>
            <a:ext cx="17528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zone 8-H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esign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3-Year Average 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Hig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ased on 2010 through 2012 Monitoring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ndard at 0.075 p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5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7907400" cy="61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onit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Placemen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.S. EPA provides guidance on placement of monit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nitors placed based on population density and manufacturing lev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Monit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41 ozone monitors in 27 counties across India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Calculating the Monitoring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evels are monitored 24 hours per day and rolling 8-hour average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re calculated; highest 8-hour average is reported for the d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monitor’s design value is calculated at the end of each ozon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ason; design values are calculated for each monitor in the state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sign value: three-year average of fourth highest valu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06CED-10CC-441C-920B-8C764E50029F}" type="slidenum">
              <a:rPr b="0" lang="en-US" sz="1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523880" y="11426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12 Monitoring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4AF97-0A9D-49E0-BB9D-03E32CEE592E}" type="slidenum">
              <a:rPr b="0" lang="en-US" sz="1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3"/>
          <p:cNvSpPr/>
          <p:nvPr/>
        </p:nvSpPr>
        <p:spPr>
          <a:xfrm>
            <a:off x="457200" y="1905120"/>
            <a:ext cx="8229600" cy="46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39852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22 of Indiana’s ozone monitors recorded annual 4</a:t>
            </a:r>
            <a:r>
              <a:rPr b="0" lang="en-US" sz="19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high values above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he 2008 8-hour health standard, i.e. equal to or greater than 0.076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ppm.  Ozone monitors above the standard include: Charlestown State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Park, Dayville, Evansville, Fairland, Gary – Illinois Institute of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echnology Research Institutes (IITRI), Granger, Hammond, Indianapolis –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East 16</a:t>
            </a:r>
            <a:r>
              <a:rPr b="0" lang="en-US" sz="19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Street, Indianapolis – Harding Street, Indianapolis –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Washington Park, Inglefield, LaPorte – East Lincolnway, Leo, Leopold,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Michigan City, New Albany, Noblesville, Ogden Dunes, Plummer, South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Bend, Whitestown, and Whiting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39852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39852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he Charlestown State Park, Michigan City, New Albany, and Plummer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ozone monitors had three-year average 4</a:t>
            </a:r>
            <a:r>
              <a:rPr b="0" lang="en-US" sz="19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high design values for the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years 2010 through 2012 that exceeded the 2008 8-hour health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tandard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39852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39852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One of Indiana’s maintenance areas classified under the 1997 8-hour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health standard exceeded both the one-year and two-year warning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level triggers (LaPorte County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zone Monitors by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685800" y="1981080"/>
          <a:ext cx="8001000" cy="4353120"/>
        </p:xfrm>
        <a:graphic>
          <a:graphicData uri="http://schemas.openxmlformats.org/drawingml/2006/table">
            <a:tbl>
              <a:tblPr/>
              <a:tblGrid>
                <a:gridCol w="2849400"/>
                <a:gridCol w="5151600"/>
              </a:tblGrid>
              <a:tr h="34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unt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rthw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ke                 LaPorte                Por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0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rth Cent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khart             St. Josep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0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rthe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len        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Hunting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0816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ent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oone     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Johns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09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laware         Madis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07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amilton          Mar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09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ancock          Morg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0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endricks        Shelb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0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est Cent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rroll              Vig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096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uthw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eene    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Vanderburgh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07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rry                Warri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09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se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uthe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rk                Jackson               Floy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38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9B45A-2486-41D8-9F06-67C9AE6A3598}" type="slidenum">
              <a:rPr b="0" lang="en-US" sz="1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04760" y="1066680"/>
            <a:ext cx="601956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nnual 4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High Trends 2003-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12"/>
          <p:cNvSpPr/>
          <p:nvPr/>
        </p:nvSpPr>
        <p:spPr>
          <a:xfrm>
            <a:off x="457200" y="6248520"/>
            <a:ext cx="304920" cy="0"/>
          </a:xfrm>
          <a:prstGeom prst="line">
            <a:avLst/>
          </a:prstGeom>
          <a:ln w="22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13"/>
          <p:cNvSpPr/>
          <p:nvPr/>
        </p:nvSpPr>
        <p:spPr>
          <a:xfrm>
            <a:off x="762120" y="6095880"/>
            <a:ext cx="1885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97 8-Hour Health Standar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15"/>
          <p:cNvSpPr/>
          <p:nvPr/>
        </p:nvSpPr>
        <p:spPr>
          <a:xfrm>
            <a:off x="762120" y="6324480"/>
            <a:ext cx="1885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8 8-Hour Health Standar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12"/>
          <p:cNvSpPr/>
          <p:nvPr/>
        </p:nvSpPr>
        <p:spPr>
          <a:xfrm>
            <a:off x="457200" y="6477120"/>
            <a:ext cx="304920" cy="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CDCDF-7C55-4FE9-96E3-A97F41E8E3B5}" type="slidenum">
              <a:rPr b="0" lang="en-US" sz="1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Chart 7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8583480" cy="39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523520" y="1066680"/>
            <a:ext cx="6705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esign Value Trends 2003-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9"/>
          <p:cNvSpPr/>
          <p:nvPr/>
        </p:nvSpPr>
        <p:spPr>
          <a:xfrm>
            <a:off x="762120" y="609588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97 8-Hour Health Standar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10"/>
          <p:cNvSpPr/>
          <p:nvPr/>
        </p:nvSpPr>
        <p:spPr>
          <a:xfrm>
            <a:off x="457200" y="6248520"/>
            <a:ext cx="304920" cy="0"/>
          </a:xfrm>
          <a:prstGeom prst="line">
            <a:avLst/>
          </a:prstGeom>
          <a:ln w="22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12"/>
          <p:cNvSpPr/>
          <p:nvPr/>
        </p:nvSpPr>
        <p:spPr>
          <a:xfrm>
            <a:off x="457200" y="6477120"/>
            <a:ext cx="304920" cy="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19"/>
          <p:cNvSpPr/>
          <p:nvPr/>
        </p:nvSpPr>
        <p:spPr>
          <a:xfrm>
            <a:off x="762120" y="632448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8 8-Hour Health Standar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CE06B-E5B7-461E-A61B-0DDC91F649BD}" type="slidenum">
              <a:rPr b="0" lang="en-US" sz="1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Chart 20" descr=""/>
          <p:cNvPicPr/>
          <p:nvPr/>
        </p:nvPicPr>
        <p:blipFill>
          <a:blip r:embed="rId1"/>
          <a:stretch/>
        </p:blipFill>
        <p:spPr>
          <a:xfrm>
            <a:off x="225360" y="1981080"/>
            <a:ext cx="8693280" cy="3962520"/>
          </a:xfrm>
          <a:prstGeom prst="rect">
            <a:avLst/>
          </a:prstGeom>
          <a:ln w="0">
            <a:noFill/>
          </a:ln>
        </p:spPr>
      </p:pic>
      <p:sp>
        <p:nvSpPr>
          <p:cNvPr id="395" name="Straight Connector 24"/>
          <p:cNvSpPr/>
          <p:nvPr/>
        </p:nvSpPr>
        <p:spPr>
          <a:xfrm>
            <a:off x="1219320" y="3429000"/>
            <a:ext cx="7543800" cy="0"/>
          </a:xfrm>
          <a:prstGeom prst="line">
            <a:avLst/>
          </a:prstGeom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18960" y="12952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eteorologically Adjusted Trend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615D6-3CC2-44EC-A11F-A566CC86447D}" type="slidenum">
              <a:rPr b="0" lang="en-US" sz="1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3"/>
          <p:cNvSpPr/>
          <p:nvPr/>
        </p:nvSpPr>
        <p:spPr>
          <a:xfrm>
            <a:off x="838080" y="2209680"/>
            <a:ext cx="79250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3984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order to account for variable meteorology, IDEM conducted a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teorologically adjusted trend analy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984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984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s type of analysis is necessary to account for variability with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itical meteorological conditions among ozone seasons, and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erify upward or downward tre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984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984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results of this analysis confirm a downward trend in monitored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zone values across the state through 201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984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984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tailed information concerning this analysis is included i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appendix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828800" y="1248840"/>
            <a:ext cx="541008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dditional In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82296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additional information regarding the NAAQS for ground-level ozone, please visit U.S. EPA’s Ground-Level Ozone Regulatory Actions website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epa.gov/air/ozonepollution/actions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4B4C4-682A-4E80-810C-70ED7452BBE4}" type="slidenum">
              <a:rPr b="0" lang="en-US" sz="1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828800" y="1265400"/>
            <a:ext cx="541008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nta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80880" y="2331720"/>
            <a:ext cx="82296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more information regarding the ozone designation process, or Indiana’s redesignation petitions and maintenance plans, visit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idem.IN.gov/4654.ht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r contact Ms. Linda McClure of the Office of Air Quality at (800) 451-6027,      (317) 232-8449, or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lmcclure@idem.IN.gov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AECA9-C2D1-4674-A10B-4D6BABC565E1}" type="slidenum">
              <a:rPr b="0" lang="en-US" sz="1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PPENDI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4"/>
          <p:cNvSpPr/>
          <p:nvPr/>
        </p:nvSpPr>
        <p:spPr>
          <a:xfrm>
            <a:off x="380880" y="228600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eorologically Adjusted Trend Analysis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12 Ozone Sea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Ozone Season Summary Report provides an overview of ozone le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rom 2012, as well as ozone trends over the last ten years (2003 through 2012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ozone season in Indiana lasts from April 1 through September 30.  The duration of the ozone season for each state is mandated by the United States Environmental Protection Agency (U.S. EP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83 total days in Indiana’s 2012 ozone seas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5 exceedance days in 20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2 forecasted days (Air Quality Action Days) in 20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F977A-019D-4061-9726-53A7433A162F}" type="slidenum">
              <a:rPr b="0" lang="en-US" sz="1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nalysis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12"/>
          <p:cNvSpPr/>
          <p:nvPr/>
        </p:nvSpPr>
        <p:spPr>
          <a:xfrm>
            <a:off x="1676520" y="190512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entral Indi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6"/>
          <p:cNvSpPr/>
          <p:nvPr/>
        </p:nvSpPr>
        <p:spPr>
          <a:xfrm>
            <a:off x="5181480" y="1905120"/>
            <a:ext cx="312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North Central Indi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9"/>
          <p:cNvSpPr/>
          <p:nvPr/>
        </p:nvSpPr>
        <p:spPr>
          <a:xfrm>
            <a:off x="609480" y="586728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ortant nodes contain the most important  individual monitor values over 0.075 ppm: Fort Benjamin Harrison (Node 53) and Bristol (Node 6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12" descr=""/>
          <p:cNvPicPr/>
          <p:nvPr/>
        </p:nvPicPr>
        <p:blipFill>
          <a:blip r:embed="rId1"/>
          <a:stretch/>
        </p:blipFill>
        <p:spPr>
          <a:xfrm>
            <a:off x="457200" y="2209680"/>
            <a:ext cx="4038480" cy="35053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15" descr=""/>
          <p:cNvPicPr/>
          <p:nvPr/>
        </p:nvPicPr>
        <p:blipFill>
          <a:blip r:embed="rId2"/>
          <a:stretch/>
        </p:blipFill>
        <p:spPr>
          <a:xfrm>
            <a:off x="4648320" y="2209680"/>
            <a:ext cx="40384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nalysis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040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99000"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Northeast Indi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47960" y="1828440"/>
            <a:ext cx="4041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99000"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Northwest Indi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10"/>
          <p:cNvSpPr/>
          <p:nvPr/>
        </p:nvSpPr>
        <p:spPr>
          <a:xfrm>
            <a:off x="609480" y="594360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ortant nodes contain the most important  individual monitor values over 0.075 ppm: Beacon Street (Node 7) and Ogden Dunes (Node 13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Content Placeholder 12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4040280" cy="365760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0" descr=""/>
          <p:cNvPicPr/>
          <p:nvPr/>
        </p:nvPicPr>
        <p:blipFill>
          <a:blip r:embed="rId2"/>
          <a:stretch/>
        </p:blipFill>
        <p:spPr>
          <a:xfrm>
            <a:off x="4648320" y="2133720"/>
            <a:ext cx="4041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nalysis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040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99000"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utheast Indi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47960" y="1752120"/>
            <a:ext cx="4041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uthwest Indi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Box 10"/>
          <p:cNvSpPr/>
          <p:nvPr/>
        </p:nvSpPr>
        <p:spPr>
          <a:xfrm>
            <a:off x="685800" y="601992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ortant nodes contain the most important  monitor values over 0.075 ppm: Charlestown (Node 5) and Inglefield (Node 13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5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4040280" cy="3733560"/>
          </a:xfrm>
          <a:prstGeom prst="rect">
            <a:avLst/>
          </a:prstGeom>
          <a:ln w="0">
            <a:noFill/>
          </a:ln>
        </p:spPr>
      </p:pic>
      <p:pic>
        <p:nvPicPr>
          <p:cNvPr id="428" name="Content Placeholder 9" descr=""/>
          <p:cNvPicPr/>
          <p:nvPr/>
        </p:nvPicPr>
        <p:blipFill>
          <a:blip r:embed="rId2"/>
          <a:stretch/>
        </p:blipFill>
        <p:spPr>
          <a:xfrm>
            <a:off x="4648320" y="2133720"/>
            <a:ext cx="404172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sis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-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Box 4"/>
          <p:cNvSpPr/>
          <p:nvPr/>
        </p:nvSpPr>
        <p:spPr>
          <a:xfrm>
            <a:off x="838080" y="57913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ortant nodes contain the most important  individual monitor values over 0.075 ppm: Plummer (Node 13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Box 5"/>
          <p:cNvSpPr/>
          <p:nvPr/>
        </p:nvSpPr>
        <p:spPr>
          <a:xfrm>
            <a:off x="3733920" y="1905120"/>
            <a:ext cx="190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Rural Backgro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7" descr=""/>
          <p:cNvPicPr/>
          <p:nvPr/>
        </p:nvPicPr>
        <p:blipFill>
          <a:blip r:embed="rId1"/>
          <a:stretch/>
        </p:blipFill>
        <p:spPr>
          <a:xfrm>
            <a:off x="2514600" y="2209680"/>
            <a:ext cx="41148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380880" y="19810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What is ground-level ozon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round-level ozone is a gas composed of three oxygen atoms. The chemical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ucture of ozone is the same whether at ground level or above the earth, but it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s unhealthy to breathe at ground leve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Where does ground-level ozone come fro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round-level ozone is not emitted directly into the air, but is created by a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emical reaction between nitrogen oxides (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 and volatile organic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pounds (VOCs) in the presence of sunlight. Emissions from industrial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acilities and electric utilities, motor vehicle exhaust, gasoline vapors, and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emical solvents are some of the major sources of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nd VOC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Health effects of ground-level ozo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est pain, coughing, throat irritation, conges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n worsen bronchitis, emphysema, asth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duces lung function and inflames the linings of the lung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ars lung tissu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24852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ackground of Ground-Level Oz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C3D93-3E4C-4A80-BE1C-3F4E792345DA}" type="slidenum">
              <a:rPr b="0" lang="en-US" sz="1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676520" y="1066320"/>
            <a:ext cx="632448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ational Ambient Air Quality Standards (NAAQS) for Oz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09120" y="236232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Primary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imary standards, also known as health standards, are limits set to protect public health, including the health of “sensitive” populations such as asthmatics, children, and the elder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Secondary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ary standards are set to protect public welfare, including protection against decreased visibility, damage to animals, crops, vegetation, and building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C7636-76D3-4585-92B2-E460978B7C43}" type="slidenum">
              <a:rPr b="0" lang="en-US" sz="1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209320" y="1142640"/>
            <a:ext cx="5410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istory of the Ozone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Down Arrow Callout 11"/>
          <p:cNvSpPr/>
          <p:nvPr/>
        </p:nvSpPr>
        <p:spPr>
          <a:xfrm>
            <a:off x="380880" y="2057400"/>
            <a:ext cx="1219320" cy="2133720"/>
          </a:xfrm>
          <a:prstGeom prst="downArrowCallout">
            <a:avLst>
              <a:gd name="adj1" fmla="val 25002"/>
              <a:gd name="adj2" fmla="val 25000"/>
              <a:gd name="adj3" fmla="val 25001"/>
              <a:gd name="adj4" fmla="val 64977"/>
            </a:avLst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U.S. EPA first established a      1-hour standard of 0.08 parts per million (ppm) for ground-level ozon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Up Arrow Callout 13"/>
          <p:cNvSpPr/>
          <p:nvPr/>
        </p:nvSpPr>
        <p:spPr>
          <a:xfrm>
            <a:off x="990720" y="4495680"/>
            <a:ext cx="1600200" cy="1828800"/>
          </a:xfrm>
          <a:prstGeom prst="upArrowCallout">
            <a:avLst>
              <a:gd name="adj1" fmla="val 25002"/>
              <a:gd name="adj2" fmla="val 25000"/>
              <a:gd name="adj3" fmla="val 25000"/>
              <a:gd name="adj4" fmla="val 70041"/>
            </a:avLst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U.S. EPA revised the      1-hour ozone standard to a level of 0.12 pp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Down Arrow Callout 14"/>
          <p:cNvSpPr/>
          <p:nvPr/>
        </p:nvSpPr>
        <p:spPr>
          <a:xfrm>
            <a:off x="1752480" y="2057400"/>
            <a:ext cx="1752840" cy="2133720"/>
          </a:xfrm>
          <a:prstGeom prst="downArrowCallout">
            <a:avLst>
              <a:gd name="adj1" fmla="val 25002"/>
              <a:gd name="adj2" fmla="val 25000"/>
              <a:gd name="adj3" fmla="val 25000"/>
              <a:gd name="adj4" fmla="val 64977"/>
            </a:avLst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U.S. EPA replaced the        1-hour standard with an    8-hour health standard of 0.08 pp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hree states and industry challenged the new standard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Down Arrow Callout 15"/>
          <p:cNvSpPr/>
          <p:nvPr/>
        </p:nvSpPr>
        <p:spPr>
          <a:xfrm>
            <a:off x="3809880" y="2057400"/>
            <a:ext cx="1219320" cy="2133720"/>
          </a:xfrm>
          <a:prstGeom prst="downArrowCallout">
            <a:avLst>
              <a:gd name="adj1" fmla="val 25002"/>
              <a:gd name="adj2" fmla="val 25000"/>
              <a:gd name="adj3" fmla="val 25001"/>
              <a:gd name="adj4" fmla="val 64977"/>
            </a:avLst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997 8-hour health standard for ozone became effectiv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Down Arrow Callout 16"/>
          <p:cNvSpPr/>
          <p:nvPr/>
        </p:nvSpPr>
        <p:spPr>
          <a:xfrm>
            <a:off x="5181480" y="2057400"/>
            <a:ext cx="1295640" cy="2133720"/>
          </a:xfrm>
          <a:prstGeom prst="downArrowCallout">
            <a:avLst>
              <a:gd name="adj1" fmla="val 25002"/>
              <a:gd name="adj2" fmla="val 25000"/>
              <a:gd name="adj3" fmla="val 25000"/>
              <a:gd name="adj4" fmla="val 64977"/>
            </a:avLst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U.S. EPA significantly strengthened the health standard for ozone to a level of 0.075 pp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Up Arrow Callout 17"/>
          <p:cNvSpPr/>
          <p:nvPr/>
        </p:nvSpPr>
        <p:spPr>
          <a:xfrm>
            <a:off x="2895480" y="4495680"/>
            <a:ext cx="1371600" cy="1828800"/>
          </a:xfrm>
          <a:prstGeom prst="upArrowCallout">
            <a:avLst>
              <a:gd name="adj1" fmla="val 25002"/>
              <a:gd name="adj2" fmla="val 25000"/>
              <a:gd name="adj3" fmla="val 25000"/>
              <a:gd name="adj4" fmla="val 70041"/>
            </a:avLst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U.S. Supreme Court upheld the 199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8-hour health standard for ozon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Up Arrow Callout 18"/>
          <p:cNvSpPr/>
          <p:nvPr/>
        </p:nvSpPr>
        <p:spPr>
          <a:xfrm>
            <a:off x="4572000" y="4495680"/>
            <a:ext cx="1143000" cy="1828800"/>
          </a:xfrm>
          <a:prstGeom prst="upArrowCallout">
            <a:avLst>
              <a:gd name="adj1" fmla="val 25002"/>
              <a:gd name="adj2" fmla="val 25000"/>
              <a:gd name="adj3" fmla="val 25000"/>
              <a:gd name="adj4" fmla="val 70041"/>
            </a:avLst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U.S. EPA revoked th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-hour ozone standar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Up Arrow Callout 19"/>
          <p:cNvSpPr/>
          <p:nvPr/>
        </p:nvSpPr>
        <p:spPr>
          <a:xfrm>
            <a:off x="6019920" y="4495680"/>
            <a:ext cx="1143000" cy="1828800"/>
          </a:xfrm>
          <a:prstGeom prst="upArrowCallout">
            <a:avLst>
              <a:gd name="adj1" fmla="val 25002"/>
              <a:gd name="adj2" fmla="val 25000"/>
              <a:gd name="adj3" fmla="val 25000"/>
              <a:gd name="adj4" fmla="val 70041"/>
            </a:avLst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U.S. EPA announced it would reconsider the 2008 8-hour health standar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457200" y="4191120"/>
          <a:ext cx="8153280" cy="304560"/>
        </p:xfrm>
        <a:graphic>
          <a:graphicData uri="http://schemas.openxmlformats.org/drawingml/2006/table">
            <a:tbl>
              <a:tblPr/>
              <a:tblGrid>
                <a:gridCol w="939960"/>
                <a:gridCol w="736560"/>
                <a:gridCol w="987480"/>
                <a:gridCol w="917280"/>
                <a:gridCol w="757440"/>
                <a:gridCol w="747720"/>
                <a:gridCol w="628560"/>
                <a:gridCol w="990720"/>
                <a:gridCol w="1447560"/>
              </a:tblGrid>
              <a:tr h="304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19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19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19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2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20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352" name="Down Arrow Callout 22"/>
          <p:cNvSpPr/>
          <p:nvPr/>
        </p:nvSpPr>
        <p:spPr>
          <a:xfrm>
            <a:off x="6781680" y="2057400"/>
            <a:ext cx="2133720" cy="2133720"/>
          </a:xfrm>
          <a:prstGeom prst="downArrowCallout">
            <a:avLst>
              <a:gd name="adj1" fmla="val 25002"/>
              <a:gd name="adj2" fmla="val 25000"/>
              <a:gd name="adj3" fmla="val 25000"/>
              <a:gd name="adj4" fmla="val 64977"/>
            </a:avLst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U.S. EPA announced it would withdraw its reconsideration of the 2008 8-hour health standard and revisit the standard during the next statutorily required NAAQS review cycle slated for 20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lide Number Placehold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75A5A-761C-4B08-BCB3-4EF40F46DC7A}" type="slidenum">
              <a:rPr b="0" lang="en-US" sz="1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Up Arrow Callout 20"/>
          <p:cNvSpPr/>
          <p:nvPr/>
        </p:nvSpPr>
        <p:spPr>
          <a:xfrm>
            <a:off x="7238880" y="4495680"/>
            <a:ext cx="1447920" cy="1828800"/>
          </a:xfrm>
          <a:prstGeom prst="upArrowCallout">
            <a:avLst>
              <a:gd name="adj1" fmla="val 25002"/>
              <a:gd name="adj2" fmla="val 25000"/>
              <a:gd name="adj3" fmla="val 24998"/>
              <a:gd name="adj4" fmla="val 70041"/>
            </a:avLst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U.S. EPA announced it would move forward with implementation of the 2008 8-hour health standard set at a level of 0.075 pp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533520" y="205704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8-Hour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attain the 8-hour standard, the three-year average of the fourth (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highest value for the ozone season must be at or below the standard of 0.075 pp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Exceedance versus a Violation of the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exceedan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occurs when an 8-hour average value is measured above the standa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violat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occurs when the three-year average of the 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highest value for the ozone season exceeds the standa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A monitor can exceed the standard without being in vio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title"/>
          </p:nvPr>
        </p:nvSpPr>
        <p:spPr>
          <a:xfrm>
            <a:off x="1904760" y="10663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ttaining the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53E0A-9E86-43CD-B7CF-3C831FA2DC5A}" type="slidenum">
              <a:rPr b="0" lang="en-US" sz="1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94920" y="106632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ttainment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1997 8-Hour Ozone Health Stand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U.S. EPA revised the former health standard in 1997 to 0.08 pp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3080" indent="-339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ttainment designations became effective in 200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3080" indent="-339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itially, 23 counties and one township in Indiana were classified as being in violation of the standa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3080" indent="-339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t the close of the 2008 ozone season, all Indiana counties met the standa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3080" indent="-339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By May 2010, all areas were officially designated attainment under the standa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3080" indent="0">
              <a:lnSpc>
                <a:spcPct val="10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2008 8-Hour Ozone Health Stand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U.S. EPA revised the 1997 health standard in 2008 to 0.075 pp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3080" indent="-339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 March 2009, the Indiana Department of Environmental Management (IDEM) submitted state recommendations to U.S. EPA for attainment status for the 2008 standa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339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Based on monitoring data from 2006 through 2008, IDEM recommended 12 counties be designated as nonattain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3080" indent="-339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 September 2009, U.S. EPA announced it would reconsider the standa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30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564C0-FB57-4466-8517-3B81A1461D40}" type="slidenum">
              <a:rPr b="0" lang="en-US" sz="1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47920" y="1066680"/>
            <a:ext cx="6248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ttainment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ECE0B-4227-4AE4-A1A2-7DEEDDE6DAEF}" type="slidenum">
              <a:rPr b="0" lang="en-US" sz="1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3"/>
          <p:cNvSpPr/>
          <p:nvPr/>
        </p:nvSpPr>
        <p:spPr>
          <a:xfrm>
            <a:off x="457200" y="1981080"/>
            <a:ext cx="82296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2008 8-Hour Ozone Health Standard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(continu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 September 2011, U.S. EPA announced it would withdraw its reconsideration of the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008 standard and revisit the standard during the next statutorily required NAAQS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view cycle slated for 2013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n September 22, 2011, U.S. EPA announced its intention to fast-track initial area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esignations and classification ru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itial area designations were based on 2008 through 2010 air quality monitoring data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nd 2009 state recommenda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U.S. EPA also announced it would consider 2011 data if certified early (i.e., by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ebruary 15, 2012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U.S. EPA completed designations for the Chicago-Naperville, IL-IN-WI area on May 31,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012 (2008 through 2010 monitoring data for Indiana and Wisconsin and 2009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rough 2011 monitoring data for Illinoi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ll other area designations were completed on April 30, 201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earborn County (Lawrenceburg Township), Lake, and Porter counties were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esignated nonattainment effective July 20, 201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ll other areas of the state were classified as unclassifiable/attain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ake and Porter counties are pending redesignation with U.S. EP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Box 3"/>
          <p:cNvSpPr/>
          <p:nvPr/>
        </p:nvSpPr>
        <p:spPr>
          <a:xfrm>
            <a:off x="7543800" y="2819520"/>
            <a:ext cx="137160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5" descr="Ozone Nonattainment Areas and Areas Pending Redesignation PowerPoint Format BEC(2).PNG"/>
          <p:cNvPicPr/>
          <p:nvPr/>
        </p:nvPicPr>
        <p:blipFill>
          <a:blip r:embed="rId1"/>
          <a:stretch/>
        </p:blipFill>
        <p:spPr>
          <a:xfrm>
            <a:off x="1301760" y="1389240"/>
            <a:ext cx="7450200" cy="5562360"/>
          </a:xfrm>
          <a:prstGeom prst="rect">
            <a:avLst/>
          </a:prstGeom>
          <a:ln w="0">
            <a:noFill/>
          </a:ln>
        </p:spPr>
      </p:pic>
      <p:sp>
        <p:nvSpPr>
          <p:cNvPr id="366" name="TextBox 6"/>
          <p:cNvSpPr/>
          <p:nvPr/>
        </p:nvSpPr>
        <p:spPr>
          <a:xfrm>
            <a:off x="8381880" y="2590920"/>
            <a:ext cx="18432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1676520" y="1066680"/>
            <a:ext cx="60958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2012 Indiana Ozone Nonattainment Are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454B6-F68A-46F6-8F1C-D35A6AAE7A0B}" type="slidenum">
              <a:rPr b="0" lang="en-US" sz="1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7T19:09:14Z</dcterms:created>
  <dc:creator>Gale Ferris</dc:creator>
  <dc:description/>
  <dc:language>en-US</dc:language>
  <cp:lastModifiedBy>Mitchell, Catherine</cp:lastModifiedBy>
  <dcterms:modified xsi:type="dcterms:W3CDTF">2021-05-26T18:29:05Z</dcterms:modified>
  <cp:revision>573</cp:revision>
  <dc:subject/>
  <dc:title>Slide 1</dc:title>
</cp:coreProperties>
</file>