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E457-387F-4823-A3E0-456244333C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rpose of this session “Incident Reporting” is to  provide you all (providers) with information regarding “Reportable Unusual Occurrence” as defined in the Aging Rule IAC 455 2-1-1 ; specifically Article 2. Home and Community Based Services regard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is responsible for submitting incidents of  “Reportable Unusual Occurrences (RUO)”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What is a RUO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What is the process of submitting a RUO via the Division of Aging (DA) Incident Reporting Tool;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How  to write a successful narra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9196-CCEB-44D1-A743-62E177F1C1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. Missing pers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ort any time a n individual is mis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long has the individual been mis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e individual have a history of wander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echanisms had already been put in pl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ontacts have been made to locate the individua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ondition found 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. Inadequate Staff Suppor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ff not adequately trai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ff not available as design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ff not implementing care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egiver iss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mily disruption of ser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ff not providing ser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ss of provi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E646-6676-48ED-97F9-A040CE4743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. Medication Erro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cation errors are required to be reported by providers of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ult Family Car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isted Living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ult Day Service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milies normally would not report unless there is an adverse effect on the individu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58AA-E9BB-4C57-B2AA-FDFC537873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shall repor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one with knowledge can report an inc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ovider can file against another provi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multiple providers are in the home at the same time and incident occurs; all providers shall re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caid Authorization providers who also serve as a waiver provider shall re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r of Case Management Services (CMS) ; however, the provider of services is primarily responsible for the initial 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B286-263C-4F27-8F7E-8F5E624CCA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FC8B-549E-43DC-81EC-8F4B9EE81A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59A7-3DD3-4D9F-A554-D5BE8A5244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7294-6550-4DC0-AE19-2DE7FB89DE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1D95-DAE2-4FE2-BA39-C323448924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AA30-085C-4028-9CCD-B3E04867BF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73AE-137B-46B0-A459-2219078A74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835F-F298-47D0-8B33-C1D2228629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vision of Aging Rule 455 IAC 2-1-1 transferred from the Division of Disability &amp; Rehabilitative Services (460 IAC 1.2-1-1 ) effective July 1, 201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icle 2. Home and Community Based Ser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article consists of 21 Rules; it is recommended that you read the article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 8. Protecting Individual  of the Aging rule is the primary focus of Incident Repor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provider shall have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icies and procedures on how to safeguard individu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35DC-6448-496E-974F-BC97214C4A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C94F-15CB-4787-83A3-98776B3062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rrative has a 1, 000 character lim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C0D7-D497-45DE-A89E-5C82A492F4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visions of Aging will review all deaths identified as high risk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th is due to an alleged, suspected, or known abuse or neglec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uma or acciden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icide or homicid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th occurs within 90 days of transition from a Nursing Fac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th occurs when the participant has gone missing from normal care set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ose death identified as “High Risk” the provider shal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mit all required documentations to the DA Mortality Review (MR) analyst within 30 days. The MR analyst will ask for records 30 days prior to the participant's d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F1FE-B592-4F02-87ED-0E5BEA6660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4547-131E-42D1-9C96-6ADD39D75F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D22B-082F-4007-9523-8764DB78A4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NOA E-Ma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ssword is the last name of the individual, followed by an asterisk, followed by then last 4 digits of the consumer’s SS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Smith*9999. The first letter only is capitaliz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re are other parts of the last name, then they must also be included (usually with a space between the last name and the title). Smith jr*9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at the text of the email. The last name must be entered exactly as shown on that ema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SN they have don’t work, or if they don’t know the ssn,  email the helpdesk (insite.helpdesk@fssa.in.gov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3C15-8742-429E-B986-521EB76766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50A0-9CA0-4F33-8CE7-329B6247A0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Web addresses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Family and Social Services Administration Home page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ttp://www.in.gov/fssa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Calibri"/>
              </a:rPr>
              <a:t>Division of Aging Home page: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n.gov/fssa/2329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dult Protective Services Home page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ttp://www.in.gov/fssa/da/3479.ht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tate Hotline 1-800-992-6978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PS Services Area Map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ging Ombudsman Home Page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ttp://www.in.gov/fssa/da/3474.ht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cident and Follow-Up Reporting  (IFUR) Tool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Calibri"/>
              </a:rPr>
              <a:t>http://ddrsprovider.fssa.in.gov/IFUR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ttp://myweb.in.gov/FSSA/aging/incident/incidetn.asp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23C7-8783-4070-A18B-2C177E99B0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ercion (ko-ur-zhen (shen): Persuading or convincing someone to do something using force or other unethical me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isal: Act of force or causing injury for venge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ndou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aint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8A3A-3FE3-4E8E-AA7D-D15B1E4F35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efinitions of Reportable Unusual Occurrence. Refer to 455 IAC 2-4-7. Page 9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buse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Emotional/Verbal: Oral; Written; Gestured language; derogatory remark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hysical: Use of force; willful infliction of injury; punishment resulting in physical injury or pain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exual: Sexual misconduct; sexual exploitation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Result of any of the following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arent/Family to individual or vice vers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taff to individual or vice vers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Individual to Individua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527A-C88D-4EEF-A02C-0006D27146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ajor Utilit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ss of electricity; heat; water; air conditio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ort short term loss only if the individual’s is significantly impa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Environmental, structural, or other significant proble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ppropriately acces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maged caused by flood, tornadoes, or other acts of God/mother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safety iss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afe work  environment for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DC5A-B911-4DE6-8682-CBAA854AF9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5. Environmental or structural problems 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est infes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oard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oul smelling odo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appropriate sani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ack of cleanlines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nsafe work environment for staff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6. Residential Fire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port  any accidental or unexpected fi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ultiple reports will be needed if more than one individual receiving services is involved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7. Suspected or observed criminal activity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ft of: money; bank information; credit cards; medication; personal belonging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elling of: drugs; medic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aff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ami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mmunity person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dividual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Note: The individual should be encouraged to report criminal activity to the local authority ( city police, sheriff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8578-3BAF-47DA-9934-3223AA503B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Injuries of Unknown origi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ort type and extent of injury;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medical intervention was needed or provided, if a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Suicidal ideation or a suicide attempt that had the potential to cause physical harm, injury, or death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ort if the caregiver is suicidal as well; could potentially impact the care being provi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ponding to incidents of suicide by the elderly and those with serious disabilities has become a priority at the national level. The DA will be changing the way we respond to threats of suicide. Recently, these incidents have been classified as sentin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A major disturbance or threat to public safet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dividual lives in an apartme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dbound and smokes while in b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okes while on oxy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dividual is wheelchair boun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ommunity and uses wheelchair as means of transportation; crossing streets and highw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. Admission to Nursing Facilit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cal Nee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habilitative Nee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Term 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Term 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ort length of stay; plans at discharge, if kn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A597-59AE-49AA-B0D8-64F29B2C8B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. Significant Injur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ra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lo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d Inju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ncture w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DC7D-0381-4564-A376-351D45D28F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1F67-68C9-4F93-8379-946DEF90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4A10-E232-4B95-85FA-22E22C39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44BA-8CE9-44BE-81F3-4797981E7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55FF-BB97-4CB8-B44F-0404442D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9049-0218-4448-9522-972E59B99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AA9A-285F-457A-9E12-6C590501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51C6-9E43-4E16-A165-5A1BF95F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E818-49E2-449A-9EF3-9E7C55C1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24A0-7B0A-4CA4-BEC6-EFCF5373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4C33-156D-4962-A5D6-4436242D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0906-713C-48F3-A77F-CFC5FA69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2B3E-9409-44D8-BBB6-4CACFEA4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AAA7-6A05-43EC-A780-29025525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AEE3-1E3C-4BE8-AD30-6A2537D8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0618-43C7-4C2D-B87E-7369A16D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9652-7D20-46D1-A4AD-CF3D19E3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76CE-CAA3-4A1A-BB6E-990825A6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3277B-D905-4FD1-A236-7F6C8667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8184F-C78B-49B7-890E-62234FAF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4ABAA-BA54-4600-8627-991602F0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49D68-1513-489B-976B-220FF998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F8E24-D957-413C-AEE1-299C856E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B135-E163-4E9A-B080-E8E3D22C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1EB90-1B2A-4ED0-AB5B-633A4A9B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ABE1F-0BCF-431F-A94F-FCD8276B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5F5DA-5B41-499F-9000-427FF920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D6034-EF9C-4B70-BABB-33F74646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02FAE-6062-453E-A930-4B4EDE06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F1A83-38F9-477D-96D2-9B5AADE7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B87A3-5D30-4B44-AFFE-5F8FFC04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7401B-C543-460D-8ADB-0FA1FD01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037A2-862E-448B-87A8-1AF35293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F1F3F-EF48-4690-90F9-CC2B12F4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6483-A075-491C-A6C1-D6E9AD32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F1B29-C02B-4149-8F8A-1AEDCD7E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AC7F0-968C-47F3-A0B7-51B752EA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1AD2D-06EF-4682-A80C-F723DEE5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394A6-4A6F-44CA-A196-4B123251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1367B-E3FD-45D8-9EE0-01D01D10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9EAFB-C91B-4F6D-B341-40542CA3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BCA01-3F2E-4265-8A78-BA2A42CA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198B9-4AF0-4846-97E9-000EE3256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1AA9F-53D1-4BE0-8288-AC0AA1935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F55B-26A0-4F72-9450-0F2E5CCB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2889-7737-4E70-9B6D-06922FF8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AA5F-F117-4F7D-B7AC-2B703A97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3C5C-4CFA-4844-AB23-9C9409CB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F538-4971-4080-903A-30E8A928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FCF8-04D4-44B1-93D4-56E4576E7DD3}" type="datetime">
              <a:rPr b="0" lang="en-US" sz="1200" spc="-1" strike="noStrike">
                <a:solidFill>
                  <a:srgbClr val="1d4577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AB67-9116-4639-B6D3-AA52D9513B9F}" type="slidenum">
              <a:rPr b="0" lang="en-US" sz="1200" spc="-1" strike="noStrike">
                <a:solidFill>
                  <a:srgbClr val="1d45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F606-6D13-4C3A-886C-58FA0ED2A803}" type="datetime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20AF-736D-48C0-9A36-4983C0F4B60A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2896-E63C-40DB-82A2-8E32BBEE38C8}" type="datetime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E2F8-2657-40EF-9BD7-0C18ACE8A765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EA82-669A-4553-B7C9-9DCDB5494347}" type="datetime">
              <a:rPr b="0" lang="en-US" sz="1200" spc="-1" strike="noStrike">
                <a:solidFill>
                  <a:srgbClr val="1d4577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D927-D01B-40F8-88F4-B5AF1AA208E4}" type="slidenum">
              <a:rPr b="0" lang="en-US" sz="1200" spc="-1" strike="noStrike">
                <a:solidFill>
                  <a:srgbClr val="1d45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302680" cy="19512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ter: Brenda Hoga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June 23, 2015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AD9B-AE61-449A-8F89-19949F13E538}" type="slidenum">
              <a:rPr b="0" lang="en-US" sz="1200" spc="-1" strike="noStrike">
                <a:solidFill>
                  <a:srgbClr val="e3e1d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cident Reporting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91440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455 IAC 2-8-2 Unusual occurrence ; reporting- cont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14. Police involvement when there is an arrest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15. A missing person: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Residency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Community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Wor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Othe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onstantia"/>
              </a:rPr>
              <a:t>Note: Keep in mind that those we serve are not necessarily homebound so a report is not required if you show up to provide services and they are not there.  When you start thinking about filing a “missing-person” report with law enforcement is the time to report under this category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16. Inadequate staff support for an individual, including inadequate supervision, with the potential for endangering the health or welfare of the individual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5F24-2C86-4535-A983-0289CD205AF5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cident Reporting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838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455 IAC 2-8-2 Unusual  occurrence; reporting-cont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17.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Medication Errors when they occur in a residential program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(Assisted Living, Adult Family Care and Adult Day Service):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Wrong medication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Wrong dose given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Missed dose(s)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Wrong route of administration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18. </a:t>
            </a:r>
            <a:r>
              <a:rPr b="0" lang="en-US" sz="1700" spc="-1" strike="noStrike">
                <a:solidFill>
                  <a:srgbClr val="ff0000"/>
                </a:solidFill>
                <a:latin typeface="Constantia"/>
              </a:rPr>
              <a:t>Falls are not required to be reported unless they result in injury, or there is a pattern of falls which indicate an increased danger to the person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Fracture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Head Injury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Laceration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Bruising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Significant injury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Medication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66EE-9419-4D9C-90C7-DF9021DF4D90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cident Reporting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400" y="838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455 IAC 2-8-2 Unusual occurrence; reporting-cont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Who shall report ?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onstantia"/>
              </a:rPr>
              <a:t>An incident shall be reported by a provider or an employee or agency of a provider who: is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providing services to the individual at the time of the incident; 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becomes aware of or received information about an alleged incident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onstantia"/>
              </a:rPr>
              <a:t>An initial report regarding an incident shall be submitted according to the DA policy upon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The occurrence of  the incident; 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The reporter  becomes aware of or receives information about an incident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Providers are required to report incidents of RUO within </a:t>
            </a:r>
            <a:r>
              <a:rPr b="0" lang="en-US" sz="1700" spc="-1" strike="noStrike">
                <a:solidFill>
                  <a:srgbClr val="ff0000"/>
                </a:solidFill>
                <a:latin typeface="Constantia"/>
              </a:rPr>
              <a:t>forty-eight (48)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hours of the time of the incident occurred, or  knowledge of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An  incident involving an allegation or suspicion of abuse, neglect, exploitation, or death of an individual must be submitted within </a:t>
            </a:r>
            <a:r>
              <a:rPr b="0" lang="en-US" sz="1700" spc="-1" strike="noStrike">
                <a:solidFill>
                  <a:srgbClr val="ff0000"/>
                </a:solidFill>
                <a:latin typeface="Constantia"/>
              </a:rPr>
              <a:t>twenty-four (24) hours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of the incident or knowledge of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Any staff suspected, alleged, or involved in an incident of abuse, neglect, or exploitation must be</a:t>
            </a:r>
            <a:r>
              <a:rPr b="0" lang="en-US" sz="1700" spc="-1" strike="noStrike">
                <a:solidFill>
                  <a:srgbClr val="ff0000"/>
                </a:solidFill>
                <a:latin typeface="Constantia"/>
              </a:rPr>
              <a:t> suspended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immediately after the incident occurs, and during the provider’s investigation of the incident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B05A-47C9-42CE-BB74-FE0FE2F8C0A0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cident Reporting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455 IAC 2-8-2 Unusual occurrence;  reporting- co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o shall report-co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reporting entity shall make available a copy of the initial Incident Report (IR),  at a minimum to the following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individual or the individual legal guardian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Case Mana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PS or CPS; as applicable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individual other services providers; as applicable; and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local law enforcement agency if requested or applicable (city police; county sheriff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767C-8CB6-4F47-8DD3-E3A43666B865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cident Reporting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990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455 IAC 2-8-2 Unusual occurrence; reporting-cont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What happens if I don’t report?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he provider of services is responsible for submitting initial RUO incidents, if the provider does not submit the initial incident the following can happen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he Case Manager or someone else reports it. The DA will notify the agency that should have reported it their staff failed to report the incident. These notifications are tracked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Continued failure to report could result in a</a:t>
            </a:r>
            <a:r>
              <a:rPr b="0" lang="en-US" sz="1900" spc="-1" strike="noStrike">
                <a:solidFill>
                  <a:srgbClr val="ff0000"/>
                </a:solidFill>
                <a:latin typeface="Constantia"/>
              </a:rPr>
              <a:t> COMPLAINT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requiring a corrective action plan with the DA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he DA could put a </a:t>
            </a:r>
            <a:r>
              <a:rPr b="0" lang="en-US" sz="1900" spc="-1" strike="noStrike">
                <a:solidFill>
                  <a:srgbClr val="ff0000"/>
                </a:solidFill>
                <a:latin typeface="Constantia"/>
              </a:rPr>
              <a:t>HOLD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on new referrals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here could be a </a:t>
            </a:r>
            <a:r>
              <a:rPr b="0" lang="en-US" sz="1900" spc="-1" strike="noStrike">
                <a:solidFill>
                  <a:srgbClr val="ff0000"/>
                </a:solidFill>
                <a:latin typeface="Constantia"/>
              </a:rPr>
              <a:t>TERMINATION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of your agency as a provider through the DA; and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Depending on the severity of the issue, a</a:t>
            </a:r>
            <a:r>
              <a:rPr b="0" lang="en-US" sz="1900" spc="-1" strike="noStrike">
                <a:solidFill>
                  <a:srgbClr val="ff0000"/>
                </a:solidFill>
                <a:latin typeface="Constantia"/>
              </a:rPr>
              <a:t> COMPLAINT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may be submitted to another entity (i.e. ISDH, Attorney General)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3FE4-B3FA-42BD-84C7-708A88151FFE}" type="slidenum">
              <a:rPr b="0" lang="en-US" sz="20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-45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cident Reporting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455 IAC 2-8-2 Unusual occurrence; reporting-cont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What is the review procedure?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onstantia"/>
              </a:rPr>
              <a:t>The DA will review the initial IR within 7.50 business hours of submission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, and if the IR includes a feasible plan to resolve the incident , the DA may: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Confirm implementation of the plan; an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Verify the consumer’s health, safety, and welfare is safeguarded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onstantia"/>
              </a:rPr>
              <a:t>The DA reviewer will close the  IR when the consumer’s health, safety, and welfare concerns are successfully resolved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onstantia"/>
              </a:rPr>
              <a:t>The provider of services will not receive notification when the incident is closed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The DA reviewer will determine if formal follow-up are required in addition to the initial IR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Notification of required follow-up is directed to the individual’ s Case Manager(CM). If no CM, the notice will go to the Area Agency on Aging liaison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The   CM will contact  the individual,  provider, and other interested parties to discuss and address the incident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B9D7-B144-4768-8CBB-426F1D17E591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cident Reporting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9bbb59"/>
              </a:buClr>
              <a:buSzPct val="95000"/>
              <a:buFont typeface="Constantia"/>
              <a:buAutoNum type="arabicPlain" startAt="45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AC 2-8-2 Unusual occurrence; reporting-co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eporting Tool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l incidents for individuals receiving services via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4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aiver :  Aged &amp; Disabled ; Traumatic Brain Injury ; and Money Follows the Person ) an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4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on-Waiver: Community and Home Options to Institutional Care for the Elderly and Disabled (CHOICE); Social Services Block Grant (SSBG);  Title 3 of the Older American Act (Title 3); and Title 3 E funding stream shall be submitted over the internet through the Incident &amp; Follow-Up Reporting (IFUR) Tool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4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address for the IFUR tool is as follows: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http://ddrsprovider.fssa.in.gov/IFUR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B0F0-75D8-4976-A1AA-2758CDD5A5F6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-533520" y="-380880"/>
            <a:ext cx="952524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Right Arrow 4"/>
          <p:cNvSpPr/>
          <p:nvPr/>
        </p:nvSpPr>
        <p:spPr>
          <a:xfrm>
            <a:off x="152280" y="4800600"/>
            <a:ext cx="762120" cy="3049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A5CE-2676-4C55-B38E-63786BEE7F1E}" type="slidenum">
              <a:rPr b="0" lang="en-US" sz="1200" spc="-1" strike="noStrike">
                <a:solidFill>
                  <a:srgbClr val="e3e1d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60C7-50A0-4579-A129-7CF89F6DE595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5" descr="C:\Program Files\Microsoft Office\MEDIA\OFFICE12\Bullets\BD21298_.gif"/>
          <p:cNvPicPr/>
          <p:nvPr/>
        </p:nvPicPr>
        <p:blipFill>
          <a:blip r:embed="rId2"/>
          <a:stretch/>
        </p:blipFill>
        <p:spPr>
          <a:xfrm>
            <a:off x="1066680" y="47242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C:\Program Files\Microsoft Office\MEDIA\OFFICE12\Bullets\BD21298_.gif"/>
          <p:cNvPicPr/>
          <p:nvPr/>
        </p:nvPicPr>
        <p:blipFill>
          <a:blip r:embed="rId3"/>
          <a:stretch/>
        </p:blipFill>
        <p:spPr>
          <a:xfrm>
            <a:off x="1066680" y="472428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-641520" y="0"/>
            <a:ext cx="9404640" cy="6126120"/>
          </a:xfrm>
          <a:prstGeom prst="rect">
            <a:avLst/>
          </a:prstGeom>
          <a:ln w="0">
            <a:noFill/>
          </a:ln>
        </p:spPr>
      </p:pic>
      <p:sp>
        <p:nvSpPr>
          <p:cNvPr id="26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E355-2213-40B7-9E21-C776D1290A15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C:\Program Files\Microsoft Office\MEDIA\OFFICE12\Bullets\BD21298_.gif"/>
          <p:cNvPicPr/>
          <p:nvPr/>
        </p:nvPicPr>
        <p:blipFill>
          <a:blip r:embed="rId2"/>
          <a:stretch/>
        </p:blipFill>
        <p:spPr>
          <a:xfrm>
            <a:off x="685800" y="5029200"/>
            <a:ext cx="200160" cy="2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cident Reporting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Rule 8. Protecting Individua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455 IAC 2-8-1  Procedure for Protecting Individua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ach provider  of services shall establish written procedures for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dministrative action agains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vestigating an alleged violation by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isciplinary action against; and dismissal of :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 employee or agent of the provider, if the employee or agent is involved in the alleged, suspected ,or actual abuse , neglect , exploitation , mistreatment or a violation of the individual’s right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CB19-DDB0-44F8-A38B-38D3D1C91472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F9DD-83DF-4BE4-AA9D-BD27A75E1217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858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C:\Program Files\Microsoft Office\MEDIA\OFFICE12\Bullets\BD21298_.gif"/>
          <p:cNvPicPr/>
          <p:nvPr/>
        </p:nvPicPr>
        <p:blipFill>
          <a:blip r:embed="rId2"/>
          <a:stretch/>
        </p:blipFill>
        <p:spPr>
          <a:xfrm>
            <a:off x="8077320" y="4495680"/>
            <a:ext cx="196560" cy="196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9" descr="C:\Program Files\Microsoft Office\MEDIA\OFFICE12\Bullets\BD21298_.gif"/>
          <p:cNvPicPr/>
          <p:nvPr/>
        </p:nvPicPr>
        <p:blipFill>
          <a:blip r:embed="rId3"/>
          <a:stretch/>
        </p:blipFill>
        <p:spPr>
          <a:xfrm>
            <a:off x="3124080" y="4800600"/>
            <a:ext cx="27144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cident Reporting</a:t>
            </a:r>
            <a:br>
              <a:rPr sz="3200"/>
            </a:b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arrative: Writing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e narrative of the IR should be brief, but clear, about the details of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at happen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o is involved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en did the incident occu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ere did the incident occu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at steps will be taken to  resolve the incident; or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at steps have already been taken  to resolve the inciden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520C-B31E-477E-9A96-286AEB26A810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cident Reporting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914400" y="990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Narrative Writing-cont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The Death of Person narrative should be informative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Was the death result of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erminal illness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Long Term Disease process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ccident or trauma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Homicide or suicide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Elopement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buse, neglect, or exploitation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Was the death expected, if known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Was there a  Do Not Resuscitate (DNR )order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Was the participant a Hospice patient (In-patient or Home)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Where life support measures removed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What was the cause of death , if known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D88B-0757-4F66-8A29-1F1FCF3179D8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A narrative that is too short.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ent was in vehicle that was hit by another c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1603-5C2F-44E3-A623-06205961CF54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ome Good Examples of a Narrative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ified by home care agency at 11:00 pm that client passed away at home.  Client had end stage renal disease and death was expected.  Hospice has been in the home for over a year.  CM notified on 10/27/10 that client had sudden decline in health over the weekend and was not expected to last much longer.  Hospice increased care with more nursing visits and caregiver/wife family provided additional support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had to evacuate her apartment around 3:00 pm due to a construction crew hitting a gas line across the street from the apartments where this client lives.  Client was taken to an elementary school which was set up as a shelter site.  Around 7:00 pm the gas was shut off and a safety sweep was done of the affected buildings and the client was able to return home. 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782C-6BC4-40AC-99F5-9B9A3A6A4FB5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Additional Information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on of Aging Home Page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secure.in.gov/fssa/2329.ht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dult Protective Services State Hotline: (800) 992-6978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Child Protective Services State Hotline: 1-800-800-555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Long Term Care Ombudsman Contact Information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n.gov/da/3474.htm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The state of Indiana’s toll-free Complaint hotline number is (888) 698-0003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Incident Reports and Follow-Up Reporting Too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ddrsprovider.fssa.in.gov/IFUR?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Provider E-Mail addresses: https://DDRSprovider.Fssa.in.gov//BDD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ft hand side menu: Notice of Action (NOA)-  E-Mail addres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1CD9-0FAE-47ED-90A8-00C2094EE2D6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Additional Information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vision of Aging Contact Information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ve Bordenkecher, Quality Assurance Director: (317) 234-646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nda Hogan, Quality Assurance Supervisor: (317) 232-7132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dy New, Quality Assurance Specialist-Incident Report Reviewer: (317) 232-706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dia Ott, Quality Assurance Specialist-Incident Report Reviewer: (317) 232-7017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rry Beck, Adult Protective Service (APS): (317) 234-673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questions relating to Incident Reporting (IR) should be sent to the DA mailbox at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-IR@fssa.in.gov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D6A2-5814-4833-B84E-82A67D94F4A2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cident Reporting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9144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455 IAC 2-8-1 Procedure for Protecting Individuals-cont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Each provider of services shall establish written procedure for employees or agents of the provider to report violations of the provider’s policies and procedures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Each provider of services shall establish written procedure for employees or agents of the provider for informing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dult Protective Services (APS) or Child Protective Services (CPS)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n individual’s legal representative, if applicable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he appropriate ombudsman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ny person designated by the individual; and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he Case Manager of a situation involving the alleged, suspected, or proven abuse, neglect, exploitation,  mistreatment of an individual , or the violation of an individual’s rights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9A0B-A930-4903-9E83-09AEF4EEF5FC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cident Reporting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9144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455 IAC 2-8-1 Procedure for Protecting Individuals-cont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Each provider will inform individuals of their right to exercise any or all without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Restraint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Interference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Coercion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Discrimination; or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hreat of reprisal; by the provider, employee, or agent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Each provider of services shall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Establish and make available to the individual written protocol for reporting required reportable unusual occurrences to the DA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Each provider of services shall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Establish and  make available to the individual written protocol informing the individual about the right to file a COMPLAINT 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9E22-80CF-4E21-917E-D4B1E5F79945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cident Reporting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9144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455 IAC 2-8-2 Unusual occurrence ; reporting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Constantia"/>
              </a:rPr>
              <a:t>Reportable Unusual Occurrence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(RUO) means an “incident of suspected abuse, neglect, or exploitation or </a:t>
            </a:r>
            <a:r>
              <a:rPr b="0" lang="en-US" sz="1900" spc="-1" strike="noStrike">
                <a:solidFill>
                  <a:srgbClr val="ff0000"/>
                </a:solidFill>
                <a:latin typeface="Constantia"/>
              </a:rPr>
              <a:t>other situations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that place at risk an adult or child  receiving Home and Community Based Services (HCBS)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455 IAC 2-4-27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RUO  include, but are not limited to, the following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Alleged, suspected, or actual abuse, neglect, or exploitation of an individual.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he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provider shall do the following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Suspend staff involved pending provider investigation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Report the incident to the applicable APS or CPS office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PS- Over the age of 18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CPS-Under the age of 18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Alleged, suspected, or actual assault  by an individual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CE42-0636-4A51-AD10-A3A87862169E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cident Reporting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9144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455 IAC 2-8-2 Unusual occurrence; reporting-cont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3.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The Death of an individual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;  report to the local APS or CPS unit  as well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Be sure to complete the fields verifying APS/CPS contact including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Name of the person contacted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Phone number of the contact; and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County of the contact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4.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A residence that compromise the health and safety of an individual due to  the following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 significant interruption of a major utility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n environmental, structural, or other significant problem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33DF-F38A-4311-B7F8-9D3EC22629AD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cident Reporting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14400" y="990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455 IAC 2-8-2 Unusual occurrence ; reporting-cont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5.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Environmental or structural problems associated with a dwelling where individuals reside that compromise the health and safety of the individuals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6.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A residential fire resulting in any of the following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Relocation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Personal Injury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Property Loss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7. Suspected or observed criminal activity by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 staff member, employee, or agent of a provider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 family member of an individual receiving services; or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he individual receiving services 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when the care of the individual is impacted or potentially impacted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9450-7E29-4165-A8FF-613B50F0E5BF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cident Reporting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14400" y="990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455 IAC 2-8-2 Unusual occurrences; reporting -cont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8.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Injuries of Unknown origin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9.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Suicidal ideation or a suicide attempt that had the potential to cause physical harm, injury, or death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. A major disturbance or threat to public safety created in the community by the individual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he threat can be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oward anyone, including staff; and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In an internal setting; and  need not be outside the individual’s residence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11.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Admission of an individual to a nursing facility, excluding respite stays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BE58-EDB0-4335-938A-94BCB14EB3F4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cident Reporting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455 IAC 455 2-8-2 Unusual occurrence; reporting-cont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12. 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A significant injury to an individual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, including, but not limited to , the following: Note: </a:t>
            </a:r>
            <a:r>
              <a:rPr b="0" lang="en-US" sz="1900" spc="-1" strike="noStrike">
                <a:solidFill>
                  <a:srgbClr val="ff0000"/>
                </a:solidFill>
                <a:latin typeface="Constantia"/>
              </a:rPr>
              <a:t>The DA defines “significant” as anything that cannot be covered by a standard 1 x 3 inch band-aid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 fracture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 burn greater than first degree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Choking that requires intervention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Contusions or lacerations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13. 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An injury that occurs while an individual is restrained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nstantia"/>
              </a:rPr>
              <a:t>All restraints are prohibited in DA service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2AF4-2F98-4DA2-BFB7-3BA702ADD11C}" type="slidenum">
              <a:rPr b="0" lang="en-US" sz="1200" spc="-1" strike="noStrike">
                <a:solidFill>
                  <a:srgbClr val="1d45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9T12:27:54Z</dcterms:created>
  <dc:creator>hoganbj</dc:creator>
  <dc:description/>
  <dc:language>en-US</dc:language>
  <cp:lastModifiedBy>bordenkecherst</cp:lastModifiedBy>
  <dcterms:modified xsi:type="dcterms:W3CDTF">2015-06-24T13:15:39Z</dcterms:modified>
  <cp:revision>220</cp:revision>
  <dc:subject/>
  <dc:title>INCIDENT REPORTING</dc:title>
</cp:coreProperties>
</file>