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eece1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EE5C6-B6D2-48F9-9CD7-6B742578B0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urpose of this session “Incident Reporting” is to  provide you all (providers) with information regarding “Reportable Unusual Occurrence” as defined in the Aging Rule IAC 455 2-1-1 ; specifically Article 2. Home and Community Based Services regarding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o is responsible for submitting incidents of  “Reportable Unusual Occurrences (RUO)”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What is a RUO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What is the process of submitting a RUO via the Division of Aging (DA) Incident Reporting Tool; 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How  to write a successful narrati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F30DA-CBA8-4792-88CA-7E0FC05076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. Missing pers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port any time a n individual is miss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long has the individual been miss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es the individual have a history of wandering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mechanisms had already been put in plac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contacts have been made to locate the individual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condition found i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6. Inadequate Staff Suppor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ff not adequately train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ff not available as designa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ff not implementing care pl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egiver issu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mily disruption of servi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ff not providing servi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ss of provi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0DE91-CBA1-4C1A-8228-4501A5E487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7. Medication Error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dication errors are required to be reported by providers of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ult Family Care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sisted Living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ult Day Services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milies normally would not report unless there is an adverse effect on the individu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53BAF-E5B8-4A78-BFEB-E49EC6F8BD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o shall repor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yone with knowledge can report an incid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rovider can file against another provi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multiple providers are in the home at the same time and incident occurs; all providers shall repor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dicaid Authorization providers who also serve as a waiver provider shall repo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vider of Case Management Services (CMS) ; however, the provider of services is primarily responsible for the initial I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E23C9-288E-4241-83E0-47080AC7C9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8B9DD-BFFB-4E69-8C71-21155CB653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FADCF-F15E-43A7-97C4-3BF4730126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5F42D-A59D-4B10-9C37-9E2E319904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6DBF0-FA39-407E-B1C0-2F4C79D5BB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DB354-ABB8-4154-954F-F8E4F1D136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F5D1B-ADC3-4249-8123-7B12592030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40E64-21FF-4C6B-B291-4FD1137535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ivision of Aging Rule 455 IAC 2-1-1 transferred from the Division of Disability &amp; Rehabilitative Services (460 IAC 1.2-1-1 ) effective July 1, 201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ticle 2. Home and Community Based Servi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article consists of 21 Rules; it is recommended that you read the article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ule 8. Protecting Individual  of the Aging rule is the primary focus of Incident Report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provider shall have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icies and procedures on how to safeguard individua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EC893-427C-413B-8C09-AE6F785D97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BF633-9AD6-4742-A67C-D3AA9B1A00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arrative has a 1, 000 character lim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B02CB-4D05-47CE-9C9F-ACA53F786F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ivisions of Aging will review all deaths identified as high risk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ath is due to an alleged, suspected, or known abuse or neglec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uma or acciden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icide or homicide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ath occurs within 90 days of transition from a Nursing Facil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ath occurs when the participant has gone missing from normal care sett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ose death identified as “High Risk” the provider shall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mit all required documentations to the DA Mortality Review (MR) analyst within 30 days. The MR analyst will ask for records 30 days prior to the participant's dea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B0056-E522-4477-BFFC-A9D9CA5AB1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63933-BB92-435E-86E8-B51F3EB8B5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534C8-CCB4-4997-A431-0A4011B5AF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. NOA E-Mai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assword is the last name of the individual, followed by an asterisk, followed by then last 4 digits of the consumer’s SS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Smith*9999. The first letter only is capitaliz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re are other parts of the last name, then they must also be included (usually with a space between the last name and the title). Smith jr*9999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ok at the text of the email. The last name must be entered exactly as shown on that emai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SSN they have don’t work, or if they don’t know the ssn,  email the helpdesk (insite.helpdesk@fssa.in.gov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1F226-B90F-438A-AD3C-5D74A68860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F43D4-1DD5-45D8-95B6-3373CB62B3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Web addresses: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Family and Social Services Administration Home page: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http://www.in.gov/fssa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0000"/>
                </a:solidFill>
                <a:latin typeface="Calibri"/>
              </a:rPr>
              <a:t>Division of Aging Home page: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in.gov/fssa/2329.ht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dult Protective Services Home page: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37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http://www.in.gov/fssa/da/3479.ht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37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State Hotline 1-800-992-6978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37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PS Services Area Map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ging Ombudsman Home Page: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37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http://www.in.gov/fssa/da/3474.ht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Incident and Follow-Up Reporting  (IFUR) Tool: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37"/>
              </a:spcBef>
              <a:buClr>
                <a:srgbClr val="ff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0000"/>
                </a:solidFill>
                <a:latin typeface="Calibri"/>
              </a:rPr>
              <a:t>http://ddrsprovider.fssa.in.gov/IFUR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37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http://myweb.in.gov/FSSA/aging/incident/incidetn.asp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E20B4-A3E5-4E35-9AED-111B4F9503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ercion (ko-ur-zhen (shen): Persuading or convincing someone to do something using force or other unethical mea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prisal: Act of force or causing injury for vengean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ndou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aint for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D2BEF-252E-4712-A93B-3458B47166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Definitions of Reportable Unusual Occurrence. Refer to 455 IAC 2-4-7. Page 9.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Abuse: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Emotional/Verbal: Oral; Written; Gestured language; derogatory remarks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Physical: Use of force; willful infliction of injury; punishment resulting in physical injury or pain.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Sexual: Sexual misconduct; sexual exploitation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Result of any of the following: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Parent/Family to individual or vice versa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Staff to individual or vice versa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Individual to Individual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1FFF9-256B-47E4-85AF-5B37466123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Major Utility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ss of electricity; heat; water; air conditio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port short term loss only if the individual’s is significantly impact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 Environmental, structural, or other significant problem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appropriately accessi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maged caused by flood, tornadoes, or other acts of God/mother na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ther safety issu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safe work  environment for staf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C86DA-F704-4A2C-A0AF-FBB20DC1EC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5. Environmental or structural problems :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est infesta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Hoard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Foul smelling odor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Inappropriate sanita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Lack of cleanlines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Unsafe work environment for staff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6. Residential Fire: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Report  any accidental or unexpected fi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ultiple reports will be needed if more than one individual receiving services is involved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7. Suspected or observed criminal activity: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Theft of: money; bank information; credit cards; medication; personal belonging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elling of: drugs; medica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taff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Famil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Community person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Individual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Note: The individual should be encouraged to report criminal activity to the local authority ( city police, sheriff)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B5C98-90CE-43A2-923C-D009A9F5A7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. Injuries of Unknown origi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port type and extent of injury; an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medical intervention was needed or provided, if an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. Suicidal ideation or a suicide attempt that had the potential to cause physical harm, injury, or death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port if the caregiver is suicidal as well; could potentially impact the care being provid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ponding to incidents of suicide by the elderly and those with serious disabilities has become a priority at the national level. The DA will be changing the way we respond to threats of suicide. Recently, these incidents have been classified as sentine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. A major disturbance or threat to public safety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ndividual lives in an apartmen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dbound and smokes while in b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mokes while on oxyg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ndividual is wheelchair bound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e community and uses wheelchair as means of transportation; crossing streets and highway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. Admission to Nursing Facility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dical Nee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habilitative Nee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ng Term Ca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rt Term Ca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port length of stay; plans at discharge, if know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0E2CF-6AE5-49B7-853E-627229E9C2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2. Significant Injury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ra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a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lo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d Inju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ncture wou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ra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78CA2-597C-4F89-A97F-C81F2A6B95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1BCD-B4C9-4D1D-B720-D96F78FAA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64C3-EF22-4398-BA71-05D5F15CE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D976-60B3-493D-B184-93CEA3DF8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59F6-3961-46B4-B69C-633C86EB5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15D20-1BC9-483E-8D0C-6DCDAD3D9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C6146-D57E-4B5F-B2A2-ECAC6BE72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6713E-DA80-4748-86BA-B3B363470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E8268-E796-442E-88A8-B98429652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326E1-0F99-460B-9BD2-F3F4AFB62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50DA6-EFD2-4988-BA7F-701C09A04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650D3-18D0-404A-AD20-BE33BB2CF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0CA3-6D56-4F2B-A9D5-E5962FF70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943B5-E155-431B-B72C-50906256C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0C77E-CBB9-4DE1-9719-5AB172561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C18D5-D0E5-4B71-B387-2E6D84B24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C716C-8446-4395-90B3-7862298C2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C260A-1DDC-4569-9C9E-F59A0D5BB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9B8F9B-DD9E-4CF8-A8B0-CCDA0EE4A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69F269-5ADD-41C0-9EE0-8D4876F73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9023AC-65E2-4436-8814-B807D99F1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8520D1-FB2C-4726-9D48-A1FC8D6A3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C4AEEC-F2E7-4393-B082-7D7A7D40B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E97B-F627-42F0-A0E5-6FE384113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451349-5A95-4151-BE43-EBF31C8F0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7EF9C6-60F6-4F9D-AA42-DCF5397A3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C90497-9453-4A95-8E00-DA041644B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4FBBD2-EC8E-430D-A703-1A9001BEB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3DBA14-387B-49F4-B6AE-F23D2679D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5FA10A-4127-4ACC-9113-F65A009A7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12D73A-8712-42E8-8DE7-A797EA1D7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0D7898-AB88-4FC8-815D-177DC01CF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A227BA-97C5-4F78-B1BD-C18E27BCA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D4CF34-898F-4B6C-B1E5-DDC7A520E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4285-BF83-4130-AAB0-B7FAE5760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D509FA-D988-4297-ACCC-C41548849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DF569F-82A3-4A88-BBFF-481891FB8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36DC1B-2C2D-4870-BB6A-B01BE13B2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3D7426-3479-4D37-B59C-F0E2E7513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E00B07-F5CF-4AE0-A2EA-FB3066730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2EE649-9F75-49CC-A32D-8DA449009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2BBB77-962A-43DD-9E79-677CCC8A7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050E95-C270-4094-8380-50F0B2498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5E7086-3B2D-446B-BC1D-AC8C600CB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8C49-0BEF-4EC3-AF36-9DD493E4C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50AE-87CF-42E3-8A82-85DBEDFF6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CCDC-BAA5-460A-AEE7-BCEA277A2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5D84-6979-414A-AD7A-7F1FE43AA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16C1-4DD9-413C-8506-8AB85A9F7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95302e">
                  <a:alpha val="45098"/>
                </a:srgbClr>
              </a:gs>
              <a:gs pos="100000">
                <a:srgbClr val="95c237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49434">
                  <a:alpha val="45098"/>
                </a:srgbClr>
              </a:gs>
              <a:gs pos="100000">
                <a:srgbClr val="bd322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0504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bbb5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064a2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d457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CBE5C-77EA-48C0-AABA-763139645683}" type="datetime">
              <a:rPr b="0" lang="en-US" sz="1200" spc="-1" strike="noStrike">
                <a:solidFill>
                  <a:srgbClr val="1d4577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d457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52482-38B6-4995-B043-F226FF8FC3E1}" type="slidenum">
              <a:rPr b="0" lang="en-US" sz="1200" spc="-1" strike="noStrike">
                <a:solidFill>
                  <a:srgbClr val="1d457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95302e">
                  <a:alpha val="45098"/>
                </a:srgbClr>
              </a:gs>
              <a:gs pos="100000">
                <a:srgbClr val="95c237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49434">
                  <a:alpha val="45098"/>
                </a:srgbClr>
              </a:gs>
              <a:gs pos="100000">
                <a:srgbClr val="bd322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eece1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0504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bbb5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064a2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3e1d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56DF2-D11A-4BD0-A604-2DA7D8970E70}" type="datetime">
              <a:rPr b="0" lang="en-US" sz="1200" spc="-1" strike="noStrike">
                <a:solidFill>
                  <a:srgbClr val="e3e1d7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3e1d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15261-F870-440D-8C15-3D88F435A2E5}" type="slidenum">
              <a:rPr b="0" lang="en-US" sz="1200" spc="-1" strike="noStrike">
                <a:solidFill>
                  <a:srgbClr val="e3e1d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95302e">
                  <a:alpha val="45098"/>
                </a:srgbClr>
              </a:gs>
              <a:gs pos="100000">
                <a:srgbClr val="95c237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49434">
                  <a:alpha val="45098"/>
                </a:srgbClr>
              </a:gs>
              <a:gs pos="100000">
                <a:srgbClr val="bd322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eece1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0504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bbb5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064a2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3e1d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0D535-E393-4A9F-806C-C07798FB4804}" type="datetime">
              <a:rPr b="0" lang="en-US" sz="1200" spc="-1" strike="noStrike">
                <a:solidFill>
                  <a:srgbClr val="e3e1d7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3e1d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C7BB0-7DD8-45C0-84C6-5013AB560FE9}" type="slidenum">
              <a:rPr b="0" lang="en-US" sz="1200" spc="-1" strike="noStrike">
                <a:solidFill>
                  <a:srgbClr val="e3e1d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95302e">
                  <a:alpha val="45098"/>
                </a:srgbClr>
              </a:gs>
              <a:gs pos="100000">
                <a:srgbClr val="95c237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49434">
                  <a:alpha val="45098"/>
                </a:srgbClr>
              </a:gs>
              <a:gs pos="100000">
                <a:srgbClr val="bd322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0504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bbb5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064a2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d457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03C2C-BBBA-4AE8-BF4D-3F626C6B4A6E}" type="datetime">
              <a:rPr b="0" lang="en-US" sz="1200" spc="-1" strike="noStrike">
                <a:solidFill>
                  <a:srgbClr val="1d4577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d457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F7E29-5FA0-42DF-8BF4-EA620F07942F}" type="slidenum">
              <a:rPr b="0" lang="en-US" sz="1200" spc="-1" strike="noStrike">
                <a:solidFill>
                  <a:srgbClr val="1d457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Title 1" descr=""/>
          <p:cNvPicPr/>
          <p:nvPr/>
        </p:nvPicPr>
        <p:blipFill>
          <a:blip r:embed="rId1"/>
          <a:stretch/>
        </p:blipFill>
        <p:spPr>
          <a:xfrm>
            <a:off x="530280" y="1255680"/>
            <a:ext cx="8302680" cy="195120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Presenter: Brenda Hogan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June 23, 2015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4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ACC93-55B9-4A25-9CDB-6771E94F2E05}" type="slidenum">
              <a:rPr b="0" lang="en-US" sz="1200" spc="-1" strike="noStrike">
                <a:solidFill>
                  <a:srgbClr val="e3e1d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Incident Reporting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914400" y="10666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455 IAC 2-8-2 Unusual occurrence ; reporting- cont.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14. Police involvement when there is an arrest.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15. A missing person: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425"/>
              </a:spcBef>
              <a:buClr>
                <a:srgbClr val="9bbb5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Residency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425"/>
              </a:spcBef>
              <a:buClr>
                <a:srgbClr val="9bbb5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Community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425"/>
              </a:spcBef>
              <a:buClr>
                <a:srgbClr val="9bbb5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Work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425"/>
              </a:spcBef>
              <a:buClr>
                <a:srgbClr val="9bbb5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Other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425"/>
              </a:spcBef>
              <a:buClr>
                <a:srgbClr val="9bbb5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0000"/>
                </a:solidFill>
                <a:latin typeface="Constantia"/>
              </a:rPr>
              <a:t>Note: Keep in mind that those we serve are not necessarily homebound so a report is not required if you show up to provide services and they are not there.  When you start thinking about filing a “missing-person” report with law enforcement is the time to report under this category.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16. Inadequate staff support for an individual, including inadequate supervision, with the potential for endangering the health or welfare of the individual.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111C1-C508-4AD6-93D7-6B3C2DE37AD0}" type="slidenum">
              <a:rPr b="0" lang="en-US" sz="1200" spc="-1" strike="noStrike">
                <a:solidFill>
                  <a:srgbClr val="1d457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4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Incident Reporting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914400" y="838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455 IAC 2-8-2 Unusual  occurrence; reporting-cont.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17. </a:t>
            </a:r>
            <a:r>
              <a:rPr b="1" lang="en-US" sz="1700" spc="-1" strike="noStrike">
                <a:solidFill>
                  <a:srgbClr val="000000"/>
                </a:solidFill>
                <a:latin typeface="Constantia"/>
              </a:rPr>
              <a:t>Medication Errors when they occur in a residential program 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(Assisted Living, Adult Family Care and Adult Day Service):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425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Wrong medication.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425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Wrong dose given.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425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Missed dose(s).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425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Wrong route of administration.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18. </a:t>
            </a:r>
            <a:r>
              <a:rPr b="0" lang="en-US" sz="1700" spc="-1" strike="noStrike">
                <a:solidFill>
                  <a:srgbClr val="ff0000"/>
                </a:solidFill>
                <a:latin typeface="Constantia"/>
              </a:rPr>
              <a:t>Falls are not required to be reported unless they result in injury, or there is a pattern of falls which indicate an increased danger to the person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425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Fracture.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425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Head Injury.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425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Laceration.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425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Bruising.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425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Significant injury.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425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Medication.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D03F6-A673-4A7F-A593-CAA1F32E94F4}" type="slidenum">
              <a:rPr b="0" lang="en-US" sz="1200" spc="-1" strike="noStrike">
                <a:solidFill>
                  <a:srgbClr val="1d457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-38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Incident Reporting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914400" y="838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455 IAC 2-8-2 Unusual occurrence; reporting-cont.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nstantia"/>
              </a:rPr>
              <a:t>Who shall report ?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0000"/>
                </a:solidFill>
                <a:latin typeface="Constantia"/>
              </a:rPr>
              <a:t>An incident shall be reported by a provider or an employee or agency of a provider who: is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 providing services to the individual at the time of the incident; or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becomes aware of or received information about an alleged incident.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0000"/>
                </a:solidFill>
                <a:latin typeface="Constantia"/>
              </a:rPr>
              <a:t>An initial report regarding an incident shall be submitted according to the DA policy upon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425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The occurrence of  the incident; or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425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The reporter  becomes aware of or receives information about an incident.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425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Providers are required to report incidents of RUO within </a:t>
            </a:r>
            <a:r>
              <a:rPr b="0" lang="en-US" sz="1700" spc="-1" strike="noStrike">
                <a:solidFill>
                  <a:srgbClr val="ff0000"/>
                </a:solidFill>
                <a:latin typeface="Constantia"/>
              </a:rPr>
              <a:t>forty-eight (48)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 hours of the time of the incident occurred, or  knowledge of.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425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An  incident involving an allegation or suspicion of abuse, neglect, exploitation, or death of an individual must be submitted within </a:t>
            </a:r>
            <a:r>
              <a:rPr b="0" lang="en-US" sz="1700" spc="-1" strike="noStrike">
                <a:solidFill>
                  <a:srgbClr val="ff0000"/>
                </a:solidFill>
                <a:latin typeface="Constantia"/>
              </a:rPr>
              <a:t>twenty-four (24) hours 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of the incident or knowledge of.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425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Any staff suspected, alleged, or involved in an incident of abuse, neglect, or exploitation must be</a:t>
            </a:r>
            <a:r>
              <a:rPr b="0" lang="en-US" sz="1700" spc="-1" strike="noStrike">
                <a:solidFill>
                  <a:srgbClr val="ff0000"/>
                </a:solidFill>
                <a:latin typeface="Constantia"/>
              </a:rPr>
              <a:t> suspended 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immediately after the incident occurs, and during the provider’s investigation of the incident.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813E1-658D-4E02-8A70-DA60B38BAC60}" type="slidenum">
              <a:rPr b="0" lang="en-US" sz="1200" spc="-1" strike="noStrike">
                <a:solidFill>
                  <a:srgbClr val="1d457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4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Incident Reporting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455 IAC 2-8-2 Unusual occurrence;  reporting- cont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Who shall report-cont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 reporting entity shall make available a copy of the initial Incident Report (IR),  at a minimum to the following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e individual or the individual legal guardian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e Case Manager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PS or CPS; as applicable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e individual other services providers; as applicable; and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e local law enforcement agency if requested or applicable (city police; county sheriff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B9E5D-B2D7-429A-8460-AE9F15106CEF}" type="slidenum">
              <a:rPr b="0" lang="en-US" sz="1200" spc="-1" strike="noStrike">
                <a:solidFill>
                  <a:srgbClr val="1d457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Incident Reporting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914400" y="9907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455 IAC 2-8-2 Unusual occurrence; reporting-cont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nstantia"/>
              </a:rPr>
              <a:t>What happens if I don’t report?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The provider of services is responsible for submitting initial RUO incidents, if the provider does not submit the initial incident the following can happen: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76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The Case Manager or someone else reports it. The DA will notify the agency that should have reported it their staff failed to report the incident. These notifications are tracked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76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Continued failure to report could result in a</a:t>
            </a:r>
            <a:r>
              <a:rPr b="0" lang="en-US" sz="1900" spc="-1" strike="noStrike">
                <a:solidFill>
                  <a:srgbClr val="ff0000"/>
                </a:solidFill>
                <a:latin typeface="Constantia"/>
              </a:rPr>
              <a:t> COMPLAINT </a:t>
            </a: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requiring a corrective action plan with the DA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76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The DA could put a </a:t>
            </a:r>
            <a:r>
              <a:rPr b="0" lang="en-US" sz="1900" spc="-1" strike="noStrike">
                <a:solidFill>
                  <a:srgbClr val="ff0000"/>
                </a:solidFill>
                <a:latin typeface="Constantia"/>
              </a:rPr>
              <a:t>HOLD</a:t>
            </a: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 on new referrals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76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There could be a </a:t>
            </a:r>
            <a:r>
              <a:rPr b="0" lang="en-US" sz="1900" spc="-1" strike="noStrike">
                <a:solidFill>
                  <a:srgbClr val="ff0000"/>
                </a:solidFill>
                <a:latin typeface="Constantia"/>
              </a:rPr>
              <a:t>TERMINATION</a:t>
            </a: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 of your agency as a provider through the DA; and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76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Depending on the severity of the issue, a</a:t>
            </a:r>
            <a:r>
              <a:rPr b="0" lang="en-US" sz="1900" spc="-1" strike="noStrike">
                <a:solidFill>
                  <a:srgbClr val="ff0000"/>
                </a:solidFill>
                <a:latin typeface="Constantia"/>
              </a:rPr>
              <a:t> COMPLAINT </a:t>
            </a: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may be submitted to another entity (i.e. ISDH, Attorney General)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EE5E0-70D9-439F-93B1-082174BC24EA}" type="slidenum">
              <a:rPr b="0" lang="en-US" sz="2000" spc="-1" strike="noStrike">
                <a:solidFill>
                  <a:srgbClr val="1d4577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-45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Incident Reporting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914400" y="7621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455 IAC 2-8-2 Unusual occurrence; reporting-cont.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nstantia"/>
              </a:rPr>
              <a:t>What is the review procedure?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0000"/>
                </a:solidFill>
                <a:latin typeface="Constantia"/>
              </a:rPr>
              <a:t>The DA will review the initial IR within 7.50 business hours of submission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, and if the IR includes a feasible plan to resolve the incident , the DA may: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425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Confirm implementation of the plan; and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425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Verify the consumer’s health, safety, and welfare is safeguarded.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0000"/>
                </a:solidFill>
                <a:latin typeface="Constantia"/>
              </a:rPr>
              <a:t>The DA reviewer will close the  IR when the consumer’s health, safety, and welfare concerns are successfully resolved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0000"/>
                </a:solidFill>
                <a:latin typeface="Constantia"/>
              </a:rPr>
              <a:t>The provider of services will not receive notification when the incident is closed.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The DA reviewer will determine if formal follow-up are required in addition to the initial IR.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Notification of required follow-up is directed to the individual’ s Case Manager(CM). If no CM, the notice will go to the Area Agency on Aging liaison.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The   CM will contact  the individual,  provider, and other interested parties to discuss and address the incident.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736F5-23D1-4BDA-BF39-C7E625DD78B4}" type="slidenum">
              <a:rPr b="0" lang="en-US" sz="1200" spc="-1" strike="noStrike">
                <a:solidFill>
                  <a:srgbClr val="1d457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44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Incident Reporting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914400" y="11430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9bbb59"/>
              </a:buClr>
              <a:buSzPct val="95000"/>
              <a:buFont typeface="Constantia"/>
              <a:buAutoNum type="arabicPlain" startAt="45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AC 2-8-2 Unusual occurrence; reporting-cont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Reporting Tool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ll incidents for individuals receiving services via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spcBef>
                <a:spcPts val="49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Waiver :  Aged &amp; Disabled ; Traumatic Brain Injury ; and Money Follows the Person ) and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spcBef>
                <a:spcPts val="49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Non-Waiver: Community and Home Options to Institutional Care for the Elderly and Disabled (CHOICE); Social Services Block Grant (SSBG);  Title 3 of the Older American Act (Title 3); and Title 3 E funding stream shall be submitted over the internet through the Incident &amp; Follow-Up Reporting (IFUR) Tool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spcBef>
                <a:spcPts val="49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e address for the IFUR tool is as follows: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http://ddrsprovider.fssa.in.gov/IFUR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ECAED-72B8-403E-A046-FCC9C9099EC9}" type="slidenum">
              <a:rPr b="0" lang="en-US" sz="1200" spc="-1" strike="noStrike">
                <a:solidFill>
                  <a:srgbClr val="1d457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2" descr=""/>
          <p:cNvPicPr/>
          <p:nvPr/>
        </p:nvPicPr>
        <p:blipFill>
          <a:blip r:embed="rId1"/>
          <a:stretch/>
        </p:blipFill>
        <p:spPr>
          <a:xfrm>
            <a:off x="-533520" y="-380880"/>
            <a:ext cx="9525240" cy="6858000"/>
          </a:xfrm>
          <a:prstGeom prst="rect">
            <a:avLst/>
          </a:prstGeom>
          <a:ln w="0">
            <a:noFill/>
          </a:ln>
        </p:spPr>
      </p:pic>
      <p:sp>
        <p:nvSpPr>
          <p:cNvPr id="251" name="Right Arrow 4"/>
          <p:cNvSpPr/>
          <p:nvPr/>
        </p:nvSpPr>
        <p:spPr>
          <a:xfrm>
            <a:off x="152280" y="4800600"/>
            <a:ext cx="762120" cy="30492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EFE5C-7F4B-4DCB-860F-43CDA366879A}" type="slidenum">
              <a:rPr b="0" lang="en-US" sz="1200" spc="-1" strike="noStrike">
                <a:solidFill>
                  <a:srgbClr val="e3e1d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25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5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2E90B-4F01-4185-8A46-722B3BE45C5A}" type="slidenum">
              <a:rPr b="0" lang="en-US" sz="1200" spc="-1" strike="noStrike">
                <a:solidFill>
                  <a:srgbClr val="1d457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5" descr="C:\Program Files\Microsoft Office\MEDIA\OFFICE12\Bullets\BD21298_.gif"/>
          <p:cNvPicPr/>
          <p:nvPr/>
        </p:nvPicPr>
        <p:blipFill>
          <a:blip r:embed="rId2"/>
          <a:stretch/>
        </p:blipFill>
        <p:spPr>
          <a:xfrm>
            <a:off x="1066680" y="472428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6" descr="C:\Program Files\Microsoft Office\MEDIA\OFFICE12\Bullets\BD21298_.gif"/>
          <p:cNvPicPr/>
          <p:nvPr/>
        </p:nvPicPr>
        <p:blipFill>
          <a:blip r:embed="rId3"/>
          <a:stretch/>
        </p:blipFill>
        <p:spPr>
          <a:xfrm>
            <a:off x="1066680" y="4724280"/>
            <a:ext cx="228600" cy="2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259" name="Picture 2" descr=""/>
          <p:cNvPicPr/>
          <p:nvPr/>
        </p:nvPicPr>
        <p:blipFill>
          <a:blip r:embed="rId1"/>
          <a:stretch/>
        </p:blipFill>
        <p:spPr>
          <a:xfrm>
            <a:off x="-641520" y="0"/>
            <a:ext cx="9404640" cy="6126120"/>
          </a:xfrm>
          <a:prstGeom prst="rect">
            <a:avLst/>
          </a:prstGeom>
          <a:ln w="0">
            <a:noFill/>
          </a:ln>
        </p:spPr>
      </p:pic>
      <p:sp>
        <p:nvSpPr>
          <p:cNvPr id="260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2D734-97D5-4BDC-92CA-F81A6A3030D9}" type="slidenum">
              <a:rPr b="0" lang="en-US" sz="1200" spc="-1" strike="noStrike">
                <a:solidFill>
                  <a:srgbClr val="1d457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5" descr="C:\Program Files\Microsoft Office\MEDIA\OFFICE12\Bullets\BD21298_.gif"/>
          <p:cNvPicPr/>
          <p:nvPr/>
        </p:nvPicPr>
        <p:blipFill>
          <a:blip r:embed="rId2"/>
          <a:stretch/>
        </p:blipFill>
        <p:spPr>
          <a:xfrm>
            <a:off x="685800" y="5029200"/>
            <a:ext cx="200160" cy="2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Incident Reporting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Rule 8. Protecting Individual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455 IAC 2-8-1  Procedure for Protecting Individual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ach provider  of services shall establish written procedures for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499"/>
              </a:spcBef>
              <a:buClr>
                <a:srgbClr val="9bbb5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dministrative action agains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499"/>
              </a:spcBef>
              <a:buClr>
                <a:srgbClr val="9bbb5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nvestigating an alleged violation by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499"/>
              </a:spcBef>
              <a:buClr>
                <a:srgbClr val="9bbb5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Disciplinary action against; and dismissal of :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n employee or agent of the provider, if the employee or agent is involved in the alleged, suspected ,or actual abuse , neglect , exploitation , mistreatment or a violation of the individual’s right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586CF-5CF6-4766-9B95-7CBBA476834F}" type="slidenum">
              <a:rPr b="0" lang="en-US" sz="1200" spc="-1" strike="noStrike">
                <a:solidFill>
                  <a:srgbClr val="1d457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BDF73-A69F-49AE-AACF-56F2E4FBB8F2}" type="slidenum">
              <a:rPr b="0" lang="en-US" sz="1200" spc="-1" strike="noStrike">
                <a:solidFill>
                  <a:srgbClr val="1d457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2" descr=""/>
          <p:cNvPicPr/>
          <p:nvPr/>
        </p:nvPicPr>
        <p:blipFill>
          <a:blip r:embed="rId1"/>
          <a:stretch/>
        </p:blipFill>
        <p:spPr>
          <a:xfrm>
            <a:off x="-380880" y="0"/>
            <a:ext cx="9524880" cy="685800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7" descr="C:\Program Files\Microsoft Office\MEDIA\OFFICE12\Bullets\BD21298_.gif"/>
          <p:cNvPicPr/>
          <p:nvPr/>
        </p:nvPicPr>
        <p:blipFill>
          <a:blip r:embed="rId2"/>
          <a:stretch/>
        </p:blipFill>
        <p:spPr>
          <a:xfrm>
            <a:off x="8077320" y="4495680"/>
            <a:ext cx="196560" cy="19692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9" descr="C:\Program Files\Microsoft Office\MEDIA\OFFICE12\Bullets\BD21298_.gif"/>
          <p:cNvPicPr/>
          <p:nvPr/>
        </p:nvPicPr>
        <p:blipFill>
          <a:blip r:embed="rId3"/>
          <a:stretch/>
        </p:blipFill>
        <p:spPr>
          <a:xfrm>
            <a:off x="3124080" y="4800600"/>
            <a:ext cx="271440" cy="2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Incident Reporting</a:t>
            </a:r>
            <a:br>
              <a:rPr sz="3200"/>
            </a:b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Narrative: Writing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 narrative of the IR should be brief, but clear, about the details of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What happen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Who is involved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When did the incident occur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Where did the incident occur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What steps will be taken to  resolve the incident; or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What steps have already been taken  to resolve the incident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A2153-E324-4459-833F-6C0024D28FF5}" type="slidenum">
              <a:rPr b="0" lang="en-US" sz="1200" spc="-1" strike="noStrike">
                <a:solidFill>
                  <a:srgbClr val="1d457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44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Incident Reporting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914400" y="9907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Narrative Writing-cont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nstantia"/>
              </a:rPr>
              <a:t>The Death of Person narrative should be informative: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Was the death result of: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76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Terminal illness;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76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Long Term Disease process;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76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Accident or trauma;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76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Homicide or suicide;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76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Elopement;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76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Abuse, neglect, or exploitation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Was the death expected, if known;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Was there a  Do Not Resuscitate (DNR )order;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Was the participant a Hospice patient (In-patient or Home);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Where life support measures removed;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What was the cause of death , if known: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4A286-F194-49AC-90D1-71B89EFB4342}" type="slidenum">
              <a:rPr b="0" lang="en-US" sz="1200" spc="-1" strike="noStrike">
                <a:solidFill>
                  <a:srgbClr val="1d457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A narrative that is too short.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ent was in vehicle that was hit by another c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2E682-1688-44AB-8D8C-9AAA66D3090B}" type="slidenum">
              <a:rPr b="0" lang="en-US" sz="1200" spc="-1" strike="noStrike">
                <a:solidFill>
                  <a:srgbClr val="1d457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ome Good Examples of a Narrative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400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00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ified by home care agency at 11:00 pm that client passed away at home.  Client had end stage renal disease and death was expected.  Hospice has been in the home for over a year.  CM notified on 10/27/10 that client had sudden decline in health over the weekend and was not expected to last much longer.  Hospice increased care with more nursing visits and caregiver/wife family provided additional supports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00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ent had to evacuate her apartment around 3:00 pm due to a construction crew hitting a gas line across the street from the apartments where this client lives.  Client was taken to an elementary school which was set up as a shelter site.  Around 7:00 pm the gas was shut off and a safety sweep was done of the affected buildings and the client was able to return home. 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00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30AFA-364A-418F-9EE4-3FB7A81F7E6E}" type="slidenum">
              <a:rPr b="0" lang="en-US" sz="1200" spc="-1" strike="noStrike">
                <a:solidFill>
                  <a:srgbClr val="1d457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Additional Information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9bbb59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vision of Aging Home Page: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s://secure.in.gov/fssa/2329.ht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Adult Protective Services State Hotline: (800) 992-6978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 Child Protective Services State Hotline: 1-800-800-5556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Long Term Care Ombudsman Contact Information: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in.gov/da/3474.htm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The state of Indiana’s toll-free Complaint hotline number is (888) 698-0003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Incident Reports and Follow-Up Reporting Tool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s://ddrsprovider.fssa.in.gov/IFUR?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Provider E-Mail addresses: https://DDRSprovider.Fssa.in.gov//BDDS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ft hand side menu: Notice of Action (NOA)-  E-Mail address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1620F-8869-4039-8A89-0CBF9CA44C9A}" type="slidenum">
              <a:rPr b="0" lang="en-US" sz="1200" spc="-1" strike="noStrike">
                <a:solidFill>
                  <a:srgbClr val="1d457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Additional Information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Division of Aging Contact Information: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00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ve Bordenkecher, Quality Assurance Director: (317) 234-6466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00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enda Hogan, Quality Assurance Supervisor: (317) 232-7132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00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dy New, Quality Assurance Specialist-Incident Report Reviewer: (317) 232-7064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00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ydia Ott, Quality Assurance Specialist-Incident Report Reviewer: (317) 232-7017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00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erry Beck, Adult Protective Service (APS): (317) 234-673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questions relating to Incident Reporting (IR) should be sent to the DA mailbox at: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00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-IR@fssa.in.gov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00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FFBD2-CF14-4D6A-9372-82187638E361}" type="slidenum">
              <a:rPr b="0" lang="en-US" sz="1200" spc="-1" strike="noStrike">
                <a:solidFill>
                  <a:srgbClr val="1d457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Incident Reporting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914400" y="12952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455 IAC 2-8-1 Procedure for Protecting Individuals-cont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nstantia"/>
              </a:rPr>
              <a:t>Each provider of services shall establish written procedure for employees or agents of the provider to report violations of the provider’s policies and procedures </a:t>
            </a: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nstantia"/>
              </a:rPr>
              <a:t>Each provider of services shall establish written procedure for employees or agents of the provider for informing: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476"/>
              </a:spcBef>
              <a:buClr>
                <a:srgbClr val="9bbb5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Adult Protective Services (APS) or Child Protective Services (CPS);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476"/>
              </a:spcBef>
              <a:buClr>
                <a:srgbClr val="9bbb5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An individual’s legal representative, if applicable;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476"/>
              </a:spcBef>
              <a:buClr>
                <a:srgbClr val="9bbb5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The appropriate ombudsman;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476"/>
              </a:spcBef>
              <a:buClr>
                <a:srgbClr val="9bbb5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Any person designated by the individual; and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476"/>
              </a:spcBef>
              <a:buClr>
                <a:srgbClr val="9bbb5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The Case Manager of a situation involving the alleged, suspected, or proven abuse, neglect, exploitation,  mistreatment of an individual , or the violation of an individual’s rights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CF59B-56F6-490D-A666-864121A21063}" type="slidenum">
              <a:rPr b="0" lang="en-US" sz="1200" spc="-1" strike="noStrike">
                <a:solidFill>
                  <a:srgbClr val="1d457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144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Incident Reporting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914400" y="11430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455 IAC 2-8-1 Procedure for Protecting Individuals-cont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nstantia"/>
              </a:rPr>
              <a:t>Each provider will inform individuals of their right to exercise any or all without: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476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Restraint;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476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Interference;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476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Coercion;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476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Discrimination; or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476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Threat of reprisal; by the provider, employee, or agent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nstantia"/>
              </a:rPr>
              <a:t>Each provider of services shall: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476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Establish and make available to the individual written protocol for reporting required reportable unusual occurrences to the DA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nstantia"/>
              </a:rPr>
              <a:t>Each provider of services shall: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476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Establish and  make available to the individual written protocol informing the individual about the right to file a COMPLAINT 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6D45E-C926-47A8-A809-68E3937D81AB}" type="slidenum">
              <a:rPr b="0" lang="en-US" sz="1200" spc="-1" strike="noStrike">
                <a:solidFill>
                  <a:srgbClr val="1d457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44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Incident Reporting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914400" y="7621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455 IAC 2-8-2 Unusual occurrence ; reporting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000000"/>
                </a:solidFill>
                <a:uFillTx/>
                <a:latin typeface="Constantia"/>
              </a:rPr>
              <a:t>Reportable Unusual Occurrence </a:t>
            </a: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(RUO) means an “incident of suspected abuse, neglect, or exploitation or </a:t>
            </a:r>
            <a:r>
              <a:rPr b="0" lang="en-US" sz="1900" spc="-1" strike="noStrike">
                <a:solidFill>
                  <a:srgbClr val="ff0000"/>
                </a:solidFill>
                <a:latin typeface="Constantia"/>
              </a:rPr>
              <a:t>other situations</a:t>
            </a: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 that place at risk an adult or child  receiving Home and Community Based Services (HCBS).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455 IAC 2-4-27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nstantia"/>
              </a:rPr>
              <a:t>RUO  include, but are not limited to, the following</a:t>
            </a: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9bbb5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nstantia"/>
              </a:rPr>
              <a:t>Alleged, suspected, or actual abuse, neglect, or exploitation of an individual. </a:t>
            </a: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The</a:t>
            </a:r>
            <a:r>
              <a:rPr b="1" lang="en-US" sz="19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provider shall do the following: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Suspend staff involved pending provider investigation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Report the incident to the applicable APS or CPS office.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APS- Over the age of 18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CPS-Under the age of 18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2. </a:t>
            </a:r>
            <a:r>
              <a:rPr b="1" lang="en-US" sz="1900" spc="-1" strike="noStrike">
                <a:solidFill>
                  <a:srgbClr val="000000"/>
                </a:solidFill>
                <a:latin typeface="Constantia"/>
              </a:rPr>
              <a:t>Alleged, suspected, or actual assault  by an individual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DE8CB-A0DB-4989-AD25-CE62B85B2227}" type="slidenum">
              <a:rPr b="0" lang="en-US" sz="1200" spc="-1" strike="noStrike">
                <a:solidFill>
                  <a:srgbClr val="1d457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Incident Reporting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914400" y="12193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455 IAC 2-8-2 Unusual occurrence; reporting-cont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3. </a:t>
            </a:r>
            <a:r>
              <a:rPr b="1" lang="en-US" sz="1900" spc="-1" strike="noStrike">
                <a:solidFill>
                  <a:srgbClr val="000000"/>
                </a:solidFill>
                <a:latin typeface="Constantia"/>
              </a:rPr>
              <a:t>The Death of an individual</a:t>
            </a: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;  report to the local APS or CPS unit  as well.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Be sure to complete the fields verifying APS/CPS contact including: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476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Name of the person contacted;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476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Phone number of the contact; and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476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County of the contact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4. </a:t>
            </a:r>
            <a:r>
              <a:rPr b="1" lang="en-US" sz="1900" spc="-1" strike="noStrike">
                <a:solidFill>
                  <a:srgbClr val="000000"/>
                </a:solidFill>
                <a:latin typeface="Constantia"/>
              </a:rPr>
              <a:t>A residence that compromise the health and safety of an individual due to  the following</a:t>
            </a: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476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A significant interruption of a major utility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476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An environmental, structural, or other significant problem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537BD-8B28-4B43-86E0-7943F721A3D7}" type="slidenum">
              <a:rPr b="0" lang="en-US" sz="1200" spc="-1" strike="noStrike">
                <a:solidFill>
                  <a:srgbClr val="1d457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144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Incident Reporting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914400" y="9907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455 IAC 2-8-2 Unusual occurrence ; reporting-cont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5. </a:t>
            </a:r>
            <a:r>
              <a:rPr b="1" lang="en-US" sz="1900" spc="-1" strike="noStrike">
                <a:solidFill>
                  <a:srgbClr val="000000"/>
                </a:solidFill>
                <a:latin typeface="Constantia"/>
              </a:rPr>
              <a:t>Environmental or structural problems associated with a dwelling where individuals reside that compromise the health and safety of the individuals</a:t>
            </a: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6. </a:t>
            </a:r>
            <a:r>
              <a:rPr b="1" lang="en-US" sz="1900" spc="-1" strike="noStrike">
                <a:solidFill>
                  <a:srgbClr val="000000"/>
                </a:solidFill>
                <a:latin typeface="Constantia"/>
              </a:rPr>
              <a:t>A residential fire resulting in any of the following: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Relocation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Personal Injury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Property Loss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nstantia"/>
              </a:rPr>
              <a:t>7. Suspected or observed criminal activity by</a:t>
            </a: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A staff member, employee, or agent of a provider;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A family member of an individual receiving services; or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The individual receiving services ;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when the care of the individual is impacted or potentially impacted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EC07C-2ADA-4ACD-9E6B-E8C5883DCC1A}" type="slidenum">
              <a:rPr b="0" lang="en-US" sz="1200" spc="-1" strike="noStrike">
                <a:solidFill>
                  <a:srgbClr val="1d457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Incident Reporting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914400" y="9907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455 IAC 2-8-2 Unusual occurrences; reporting -cont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8. </a:t>
            </a:r>
            <a:r>
              <a:rPr b="1" lang="en-US" sz="1900" spc="-1" strike="noStrike">
                <a:solidFill>
                  <a:srgbClr val="000000"/>
                </a:solidFill>
                <a:latin typeface="Constantia"/>
              </a:rPr>
              <a:t>Injuries of Unknown origin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9. </a:t>
            </a:r>
            <a:r>
              <a:rPr b="1" lang="en-US" sz="1900" spc="-1" strike="noStrike">
                <a:solidFill>
                  <a:srgbClr val="000000"/>
                </a:solidFill>
                <a:latin typeface="Constantia"/>
              </a:rPr>
              <a:t>Suicidal ideation or a suicide attempt that had the potential to cause physical harm, injury, or death</a:t>
            </a: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10</a:t>
            </a:r>
            <a:r>
              <a:rPr b="1" lang="en-US" sz="1900" spc="-1" strike="noStrike">
                <a:solidFill>
                  <a:srgbClr val="000000"/>
                </a:solidFill>
                <a:latin typeface="Constantia"/>
              </a:rPr>
              <a:t>. A major disturbance or threat to public safety created in the community by the individual</a:t>
            </a: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The threat can be: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Toward anyone, including staff; and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In an internal setting; and  need not be outside the individual’s residence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11. </a:t>
            </a:r>
            <a:r>
              <a:rPr b="1" lang="en-US" sz="1900" spc="-1" strike="noStrike">
                <a:solidFill>
                  <a:srgbClr val="000000"/>
                </a:solidFill>
                <a:latin typeface="Constantia"/>
              </a:rPr>
              <a:t>Admission of an individual to a nursing facility, excluding respite stays.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DB1B4-8249-49E6-B2CA-95E1F7AD4087}" type="slidenum">
              <a:rPr b="0" lang="en-US" sz="1200" spc="-1" strike="noStrike">
                <a:solidFill>
                  <a:srgbClr val="1d457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Incident Reporting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53352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455 IAC 455 2-8-2 Unusual occurrence; reporting-cont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12.  </a:t>
            </a:r>
            <a:r>
              <a:rPr b="1" lang="en-US" sz="1900" spc="-1" strike="noStrike">
                <a:solidFill>
                  <a:srgbClr val="000000"/>
                </a:solidFill>
                <a:latin typeface="Constantia"/>
              </a:rPr>
              <a:t>A significant injury to an individual</a:t>
            </a: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, including, but not limited to , the following: Note: </a:t>
            </a:r>
            <a:r>
              <a:rPr b="0" lang="en-US" sz="1900" spc="-1" strike="noStrike">
                <a:solidFill>
                  <a:srgbClr val="ff0000"/>
                </a:solidFill>
                <a:latin typeface="Constantia"/>
              </a:rPr>
              <a:t>The DA defines “significant” as anything that cannot be covered by a standard 1 x 3 inch band-aid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76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A fracture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76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A burn greater than first degree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76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Choking that requires intervention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76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Contusions or lacerations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13. </a:t>
            </a:r>
            <a:r>
              <a:rPr b="1" lang="en-US" sz="1900" spc="-1" strike="noStrike">
                <a:solidFill>
                  <a:srgbClr val="000000"/>
                </a:solidFill>
                <a:latin typeface="Constantia"/>
              </a:rPr>
              <a:t>An injury that occurs while an individual is restrained</a:t>
            </a: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76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0000"/>
                </a:solidFill>
                <a:latin typeface="Constantia"/>
              </a:rPr>
              <a:t>All restraints are prohibited in DA services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3C39F-795E-4F89-968E-15E16569964D}" type="slidenum">
              <a:rPr b="0" lang="en-US" sz="1200" spc="-1" strike="noStrike">
                <a:solidFill>
                  <a:srgbClr val="1d457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09T12:27:54Z</dcterms:created>
  <dc:creator>hoganbj</dc:creator>
  <dc:description/>
  <dc:language>en-US</dc:language>
  <cp:lastModifiedBy>bordenkecherst</cp:lastModifiedBy>
  <dcterms:modified xsi:type="dcterms:W3CDTF">2015-06-24T13:15:39Z</dcterms:modified>
  <cp:revision>220</cp:revision>
  <dc:subject/>
  <dc:title>INCIDENT REPORTING</dc:title>
</cp:coreProperties>
</file>